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wmf" ContentType="image/x-wmf"/>
  <Override PartName="/ppt/media/image16.wmf" ContentType="image/x-wmf"/>
  <Override PartName="/ppt/media/image4.wmf" ContentType="image/x-wmf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E03F-B99C-40F3-9D50-EFA7718E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5319-910D-45E8-ABC6-052C24EF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05F0-0F18-48F8-8A48-56D40E96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0093-DFE3-4C8F-9CA8-5C8DE09C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3410-FFB2-4FAC-BF0C-CF96E5BF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49A8-6C75-48AF-B6FF-465C6A24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AC0-0145-4C1D-A609-98E8A7DB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70D8-5725-4F30-B4C6-8ECFF078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F6B9-2A2A-4475-9122-7B0C54C5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4649-E1CD-4FE3-B574-B289139C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5915-FEE4-43A6-AE7D-D7B8B048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C05D-E897-4307-B8CF-4CF800BF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9A64-A78A-442C-A0B4-E61C38C46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2620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-57600" y="-33480"/>
            <a:ext cx="2049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ahoma"/>
              </a:rPr>
              <a:t>Applied Mechanics 20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368480" y="-28440"/>
            <a:ext cx="1800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ahoma"/>
              </a:rPr>
              <a:t>Wisla , 30.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cs-CZ" sz="1300" spc="-1" strike="noStrike">
                <a:solidFill>
                  <a:srgbClr val="000000"/>
                </a:solidFill>
                <a:latin typeface="Tahoma"/>
              </a:rPr>
              <a:t>.-1.6.20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6280200"/>
            <a:ext cx="9167760" cy="672840"/>
            <a:chOff x="0" y="6280200"/>
            <a:chExt cx="9167760" cy="672840"/>
          </a:xfrm>
        </p:grpSpPr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308640"/>
              <a:ext cx="9167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63400" y="6280200"/>
              <a:ext cx="42847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Laboratoř mechatroniky a robotiky                                    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00400" y="6629400"/>
              <a:ext cx="4006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Tahoma"/>
                </a:rPr>
                <a:t>Ústav mechaniky těles, FSI, VUT v Brně </a:t>
              </a: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r>
                <a:rPr b="0" lang="cs-CZ" sz="900" spc="-1" strike="noStrike">
                  <a:solidFill>
                    <a:srgbClr val="000000"/>
                  </a:solidFill>
                  <a:latin typeface="Tahoma"/>
                </a:rPr>
                <a:t> Ústav termomechaniky, AV Č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" name=""/>
            <p:cNvGraphicFramePr/>
            <p:nvPr/>
          </p:nvGraphicFramePr>
          <p:xfrm>
            <a:off x="58680" y="6337440"/>
            <a:ext cx="473040" cy="476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8680" y="6337440"/>
                      <a:ext cx="47304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" name=""/>
            <p:cNvGrpSpPr/>
            <p:nvPr/>
          </p:nvGrpSpPr>
          <p:grpSpPr>
            <a:xfrm>
              <a:off x="7305840" y="6337440"/>
              <a:ext cx="1753920" cy="476280"/>
              <a:chOff x="7305840" y="6337440"/>
              <a:chExt cx="1753920" cy="476280"/>
            </a:xfrm>
          </p:grpSpPr>
          <p:pic>
            <p:nvPicPr>
              <p:cNvPr id="1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9320" y="6337440"/>
                <a:ext cx="46044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880400" y="6342120"/>
                <a:ext cx="565200" cy="4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305840" y="6337440"/>
                <a:ext cx="428400" cy="42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6858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DELING AND ANALYSIS OF DYNAMIC PROPERTIES OF ELECTROMECHANICAL DRIVE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8769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uto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8769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f.Ing. Ctirad Kratochvíl, Dr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5257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g. František Procházka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600200" y="2666880"/>
            <a:ext cx="6031080" cy="1530360"/>
            <a:chOff x="1600200" y="2666880"/>
            <a:chExt cx="6031080" cy="1530360"/>
          </a:xfrm>
        </p:grpSpPr>
        <p:grpSp>
          <p:nvGrpSpPr>
            <p:cNvPr id="59" name=""/>
            <p:cNvGrpSpPr/>
            <p:nvPr/>
          </p:nvGrpSpPr>
          <p:grpSpPr>
            <a:xfrm>
              <a:off x="1600200" y="2666880"/>
              <a:ext cx="6031080" cy="1288440"/>
              <a:chOff x="1600200" y="2666880"/>
              <a:chExt cx="6031080" cy="128844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1714680" y="2666880"/>
                <a:ext cx="5744880" cy="1288440"/>
                <a:chOff x="1714680" y="2666880"/>
                <a:chExt cx="5744880" cy="12884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4830840" y="3238200"/>
                  <a:ext cx="807840" cy="142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3581280" y="3242880"/>
                  <a:ext cx="752760" cy="13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" name=""/>
                <p:cNvGrpSpPr/>
                <p:nvPr/>
              </p:nvGrpSpPr>
              <p:grpSpPr>
                <a:xfrm>
                  <a:off x="5592600" y="2819160"/>
                  <a:ext cx="1866960" cy="976320"/>
                  <a:chOff x="5592600" y="2819160"/>
                  <a:chExt cx="1866960" cy="97632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>
                    <a:off x="6006960" y="2823840"/>
                    <a:ext cx="1033560" cy="97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7040520" y="2819160"/>
                    <a:ext cx="419040" cy="97632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 flipH="1">
                    <a:off x="5592600" y="2823840"/>
                    <a:ext cx="419040" cy="97164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1714680" y="2823840"/>
                  <a:ext cx="1866600" cy="976320"/>
                  <a:chOff x="1714680" y="2823840"/>
                  <a:chExt cx="1866600" cy="97632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2129040" y="2828520"/>
                    <a:ext cx="1033200" cy="97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3162240" y="2823840"/>
                    <a:ext cx="419040" cy="97632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flipH="1">
                    <a:off x="1714680" y="2828520"/>
                    <a:ext cx="419040" cy="97164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4338360" y="2666880"/>
                  <a:ext cx="492120" cy="1288440"/>
                  <a:chOff x="4338360" y="2666880"/>
                  <a:chExt cx="492120" cy="128844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5400000">
                    <a:off x="3941280" y="3066120"/>
                    <a:ext cx="1286280" cy="49212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4584960" y="2666880"/>
                    <a:ext cx="0" cy="127692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4" name=""/>
              <p:cNvSpPr/>
              <p:nvPr/>
            </p:nvSpPr>
            <p:spPr>
              <a:xfrm>
                <a:off x="1600200" y="3309840"/>
                <a:ext cx="6031080" cy="1440"/>
              </a:xfrm>
              <a:custGeom>
                <a:avLst/>
                <a:gdLst/>
                <a:ahLst/>
                <a:rect l="l" t="t" r="r" b="b"/>
                <a:pathLst>
                  <a:path w="7595" h="1">
                    <a:moveTo>
                      <a:pt x="0" y="0"/>
                    </a:moveTo>
                    <a:lnTo>
                      <a:pt x="7595" y="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743120" y="3801600"/>
              <a:ext cx="1852560" cy="395640"/>
              <a:chOff x="1743120" y="3801600"/>
              <a:chExt cx="1852560" cy="395640"/>
            </a:xfrm>
          </p:grpSpPr>
          <p:sp>
            <p:nvSpPr>
              <p:cNvPr id="76" name=""/>
              <p:cNvSpPr/>
              <p:nvPr/>
            </p:nvSpPr>
            <p:spPr>
              <a:xfrm flipV="1">
                <a:off x="2033640" y="3801240"/>
                <a:ext cx="1271520" cy="176040"/>
              </a:xfrm>
              <a:custGeom>
                <a:avLst/>
                <a:gdLst>
                  <a:gd name="textAreaLeft" fmla="*/ 279360 w 1271520"/>
                  <a:gd name="textAreaRight" fmla="*/ 992160 w 1271520"/>
                  <a:gd name="textAreaTop" fmla="*/ 38520 h 176040"/>
                  <a:gd name="textAreaBottom" fmla="*/ 137520 h 17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96969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"/>
              <p:cNvGrpSpPr/>
              <p:nvPr/>
            </p:nvGrpSpPr>
            <p:grpSpPr>
              <a:xfrm>
                <a:off x="1743120" y="3987720"/>
                <a:ext cx="1852560" cy="209520"/>
                <a:chOff x="1743120" y="3987720"/>
                <a:chExt cx="1852560" cy="2095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1743120" y="3987720"/>
                  <a:ext cx="1847880" cy="20952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743120" y="3987720"/>
                  <a:ext cx="185256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" name=""/>
            <p:cNvGrpSpPr/>
            <p:nvPr/>
          </p:nvGrpSpPr>
          <p:grpSpPr>
            <a:xfrm>
              <a:off x="5640480" y="3796560"/>
              <a:ext cx="1852560" cy="395640"/>
              <a:chOff x="5640480" y="3796560"/>
              <a:chExt cx="1852560" cy="395640"/>
            </a:xfrm>
          </p:grpSpPr>
          <p:sp>
            <p:nvSpPr>
              <p:cNvPr id="81" name=""/>
              <p:cNvSpPr/>
              <p:nvPr/>
            </p:nvSpPr>
            <p:spPr>
              <a:xfrm flipV="1">
                <a:off x="5930640" y="3796200"/>
                <a:ext cx="1271520" cy="176040"/>
              </a:xfrm>
              <a:custGeom>
                <a:avLst/>
                <a:gdLst>
                  <a:gd name="textAreaLeft" fmla="*/ 279360 w 1271520"/>
                  <a:gd name="textAreaRight" fmla="*/ 992160 w 1271520"/>
                  <a:gd name="textAreaTop" fmla="*/ 38520 h 176040"/>
                  <a:gd name="textAreaBottom" fmla="*/ 137520 h 17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96969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5640480" y="3982680"/>
                <a:ext cx="1852560" cy="209520"/>
                <a:chOff x="5640480" y="3982680"/>
                <a:chExt cx="1852560" cy="2095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5640480" y="3982680"/>
                  <a:ext cx="1847880" cy="209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640480" y="3982680"/>
                  <a:ext cx="185256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Ukázka řešení konkrétního poho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352680" y="3124080"/>
            <a:ext cx="2400480" cy="1545840"/>
            <a:chOff x="3352680" y="3124080"/>
            <a:chExt cx="2400480" cy="1545840"/>
          </a:xfrm>
        </p:grpSpPr>
        <p:sp>
          <p:nvSpPr>
            <p:cNvPr id="548" name=""/>
            <p:cNvSpPr/>
            <p:nvPr/>
          </p:nvSpPr>
          <p:spPr>
            <a:xfrm>
              <a:off x="4851360" y="3809880"/>
              <a:ext cx="901800" cy="16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352680" y="3816360"/>
              <a:ext cx="903240" cy="16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4262400" y="3124080"/>
              <a:ext cx="588960" cy="1545840"/>
              <a:chOff x="4262400" y="3124080"/>
              <a:chExt cx="588960" cy="1545840"/>
            </a:xfrm>
          </p:grpSpPr>
          <p:sp>
            <p:nvSpPr>
              <p:cNvPr id="551" name=""/>
              <p:cNvSpPr/>
              <p:nvPr/>
            </p:nvSpPr>
            <p:spPr>
              <a:xfrm rot="5400000">
                <a:off x="3785040" y="3603600"/>
                <a:ext cx="1543320" cy="5889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556880" y="3124080"/>
                <a:ext cx="0" cy="153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"/>
          <p:cNvGrpSpPr/>
          <p:nvPr/>
        </p:nvGrpSpPr>
        <p:grpSpPr>
          <a:xfrm>
            <a:off x="1112760" y="3313080"/>
            <a:ext cx="2257560" cy="1646280"/>
            <a:chOff x="1112760" y="3313080"/>
            <a:chExt cx="2257560" cy="1646280"/>
          </a:xfrm>
        </p:grpSpPr>
        <p:grpSp>
          <p:nvGrpSpPr>
            <p:cNvPr id="554" name=""/>
            <p:cNvGrpSpPr/>
            <p:nvPr/>
          </p:nvGrpSpPr>
          <p:grpSpPr>
            <a:xfrm>
              <a:off x="1112760" y="3313080"/>
              <a:ext cx="2239560" cy="1171440"/>
              <a:chOff x="1112760" y="3313080"/>
              <a:chExt cx="2239560" cy="1171440"/>
            </a:xfrm>
          </p:grpSpPr>
          <p:sp>
            <p:nvSpPr>
              <p:cNvPr id="555" name=""/>
              <p:cNvSpPr/>
              <p:nvPr/>
            </p:nvSpPr>
            <p:spPr>
              <a:xfrm>
                <a:off x="1609920" y="3318480"/>
                <a:ext cx="1239840" cy="1165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849760" y="3313080"/>
                <a:ext cx="502560" cy="1171440"/>
              </a:xfrm>
              <a:prstGeom prst="flowChartDelay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1112760" y="3318480"/>
                <a:ext cx="502560" cy="1165680"/>
              </a:xfrm>
              <a:prstGeom prst="flowChartDelay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1147680" y="4484160"/>
              <a:ext cx="2222640" cy="475200"/>
              <a:chOff x="1147680" y="4484160"/>
              <a:chExt cx="2222640" cy="475200"/>
            </a:xfrm>
          </p:grpSpPr>
          <p:sp>
            <p:nvSpPr>
              <p:cNvPr id="559" name=""/>
              <p:cNvSpPr/>
              <p:nvPr/>
            </p:nvSpPr>
            <p:spPr>
              <a:xfrm>
                <a:off x="1147680" y="4707000"/>
                <a:ext cx="2216160" cy="252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147680" y="4707000"/>
                <a:ext cx="2222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1496880" y="4483800"/>
                <a:ext cx="1523880" cy="211320"/>
              </a:xfrm>
              <a:custGeom>
                <a:avLst/>
                <a:gdLst>
                  <a:gd name="textAreaLeft" fmla="*/ 335160 w 1523880"/>
                  <a:gd name="textAreaRight" fmla="*/ 1188720 w 1523880"/>
                  <a:gd name="textAreaTop" fmla="*/ 46440 h 211320"/>
                  <a:gd name="textAreaBottom" fmla="*/ 164880 h 21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96969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2" name=""/>
          <p:cNvGrpSpPr/>
          <p:nvPr/>
        </p:nvGrpSpPr>
        <p:grpSpPr>
          <a:xfrm>
            <a:off x="5765760" y="3306600"/>
            <a:ext cx="2279520" cy="1646280"/>
            <a:chOff x="5765760" y="3306600"/>
            <a:chExt cx="2279520" cy="1646280"/>
          </a:xfrm>
        </p:grpSpPr>
        <p:grpSp>
          <p:nvGrpSpPr>
            <p:cNvPr id="563" name=""/>
            <p:cNvGrpSpPr/>
            <p:nvPr/>
          </p:nvGrpSpPr>
          <p:grpSpPr>
            <a:xfrm>
              <a:off x="5765760" y="3306600"/>
              <a:ext cx="2239560" cy="1171800"/>
              <a:chOff x="5765760" y="3306600"/>
              <a:chExt cx="2239560" cy="1171800"/>
            </a:xfrm>
          </p:grpSpPr>
          <p:sp>
            <p:nvSpPr>
              <p:cNvPr id="564" name=""/>
              <p:cNvSpPr/>
              <p:nvPr/>
            </p:nvSpPr>
            <p:spPr>
              <a:xfrm>
                <a:off x="6262920" y="3312000"/>
                <a:ext cx="1239840" cy="1166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502760" y="3306600"/>
                <a:ext cx="502560" cy="1171800"/>
              </a:xfrm>
              <a:prstGeom prst="flowChartDelay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5765760" y="3312000"/>
                <a:ext cx="502560" cy="1166040"/>
              </a:xfrm>
              <a:prstGeom prst="flowChartDelay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5823000" y="4478400"/>
              <a:ext cx="2222280" cy="474480"/>
              <a:chOff x="5823000" y="4478400"/>
              <a:chExt cx="2222280" cy="474480"/>
            </a:xfrm>
          </p:grpSpPr>
          <p:sp>
            <p:nvSpPr>
              <p:cNvPr id="568" name=""/>
              <p:cNvSpPr/>
              <p:nvPr/>
            </p:nvSpPr>
            <p:spPr>
              <a:xfrm flipV="1">
                <a:off x="6172200" y="4478400"/>
                <a:ext cx="1523880" cy="210960"/>
              </a:xfrm>
              <a:custGeom>
                <a:avLst/>
                <a:gdLst>
                  <a:gd name="textAreaLeft" fmla="*/ 335160 w 1523880"/>
                  <a:gd name="textAreaRight" fmla="*/ 1188720 w 1523880"/>
                  <a:gd name="textAreaTop" fmla="*/ 46440 h 210960"/>
                  <a:gd name="textAreaBottom" fmla="*/ 164520 h 210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96969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823000" y="4700520"/>
                <a:ext cx="2216160" cy="2523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823000" y="4700520"/>
                <a:ext cx="22222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1" name=""/>
          <p:cNvSpPr/>
          <p:nvPr/>
        </p:nvSpPr>
        <p:spPr>
          <a:xfrm>
            <a:off x="763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hématické znázornění pohonové soustavy klasického uspořádání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976320" y="3895560"/>
            <a:ext cx="7234200" cy="1800"/>
          </a:xfrm>
          <a:custGeom>
            <a:avLst/>
            <a:gdLst/>
            <a:ahLst/>
            <a:rect l="l" t="t" r="r" b="b"/>
            <a:pathLst>
              <a:path w="7595" h="1">
                <a:moveTo>
                  <a:pt x="0" y="0"/>
                </a:moveTo>
                <a:lnTo>
                  <a:pt x="7595" y="1"/>
                </a:lnTo>
              </a:path>
            </a:pathLst>
          </a:custGeom>
          <a:noFill/>
          <a:ln w="3240">
            <a:solidFill>
              <a:srgbClr val="0000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281240" y="504828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ejnosměrný motor s cizím buzen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38640" y="5048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pojovací prvek s nelineární charakteristikou tuh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929200" y="50482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acovní stro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523880" y="1752480"/>
            <a:ext cx="457200" cy="1447920"/>
          </a:xfrm>
          <a:prstGeom prst="lightningBol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135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57400" y="2286000"/>
            <a:ext cx="380880" cy="914400"/>
          </a:xfrm>
          <a:prstGeom prst="lightningBol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135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6934320" y="2209680"/>
            <a:ext cx="457200" cy="990720"/>
          </a:xfrm>
          <a:prstGeom prst="lightningBolt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81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676520" y="1523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rucha napětí cívky cizího vinut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09680" y="205740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rucha napětí cívky kotv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181480" y="198108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rucha zatěžujícího momen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3808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arametry pohonové soustav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457200" y="762120"/>
            <a:ext cx="4076640" cy="285480"/>
            <a:chOff x="457200" y="762120"/>
            <a:chExt cx="4076640" cy="285480"/>
          </a:xfrm>
        </p:grpSpPr>
        <p:sp>
          <p:nvSpPr>
            <p:cNvPr id="584" name=""/>
            <p:cNvSpPr/>
            <p:nvPr/>
          </p:nvSpPr>
          <p:spPr>
            <a:xfrm>
              <a:off x="457200" y="76212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oment setrvačnosti motoru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3352680" y="762120"/>
                  <a:ext cx="118116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85</m:t>
                      </m:r>
                      <m:r>
                        <m:t xml:space="preserve"> </m:t>
                      </m:r>
                      <m:r>
                        <m:t xml:space="preserve">g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6" name=""/>
          <p:cNvGrpSpPr/>
          <p:nvPr/>
        </p:nvGrpSpPr>
        <p:grpSpPr>
          <a:xfrm>
            <a:off x="457200" y="1066680"/>
            <a:ext cx="4025880" cy="285840"/>
            <a:chOff x="457200" y="1066680"/>
            <a:chExt cx="4025880" cy="285840"/>
          </a:xfrm>
        </p:grpSpPr>
        <p:sp>
          <p:nvSpPr>
            <p:cNvPr id="587" name=""/>
            <p:cNvSpPr/>
            <p:nvPr/>
          </p:nvSpPr>
          <p:spPr>
            <a:xfrm>
              <a:off x="457200" y="106668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ahoma"/>
                </a:rPr>
                <a:t>moment setrvačnosti prac.stroje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8" name=""/>
                <p:cNvSpPr txBox="1"/>
                <p:nvPr/>
              </p:nvSpPr>
              <p:spPr>
                <a:xfrm>
                  <a:off x="3352680" y="1066680"/>
                  <a:ext cx="113040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55</m:t>
                      </m:r>
                      <m:r>
                        <m:t xml:space="preserve"> </m:t>
                      </m:r>
                      <m:r>
                        <m:t xml:space="preserve">g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9" name=""/>
          <p:cNvGrpSpPr/>
          <p:nvPr/>
        </p:nvGrpSpPr>
        <p:grpSpPr>
          <a:xfrm>
            <a:off x="457200" y="1371600"/>
            <a:ext cx="3892680" cy="276480"/>
            <a:chOff x="457200" y="1371600"/>
            <a:chExt cx="3892680" cy="276480"/>
          </a:xfrm>
        </p:grpSpPr>
        <p:sp>
          <p:nvSpPr>
            <p:cNvPr id="590" name=""/>
            <p:cNvSpPr/>
            <p:nvPr/>
          </p:nvSpPr>
          <p:spPr>
            <a:xfrm>
              <a:off x="457200" y="13716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dpor kotvy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1" name=""/>
                <p:cNvSpPr txBox="1"/>
                <p:nvPr/>
              </p:nvSpPr>
              <p:spPr>
                <a:xfrm>
                  <a:off x="3352680" y="1371600"/>
                  <a:ext cx="997200" cy="27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58</m:t>
                      </m:r>
                      <m:r>
                        <m:t xml:space="preserve"> 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2" name=""/>
          <p:cNvGrpSpPr/>
          <p:nvPr/>
        </p:nvGrpSpPr>
        <p:grpSpPr>
          <a:xfrm>
            <a:off x="457200" y="1676520"/>
            <a:ext cx="4068720" cy="276480"/>
            <a:chOff x="457200" y="1676520"/>
            <a:chExt cx="4068720" cy="276480"/>
          </a:xfrm>
        </p:grpSpPr>
        <p:sp>
          <p:nvSpPr>
            <p:cNvPr id="593" name=""/>
            <p:cNvSpPr/>
            <p:nvPr/>
          </p:nvSpPr>
          <p:spPr>
            <a:xfrm>
              <a:off x="457200" y="167652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ahoma"/>
                </a:rPr>
                <a:t>indukčnost kotvy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4" name=""/>
                <p:cNvSpPr txBox="1"/>
                <p:nvPr/>
              </p:nvSpPr>
              <p:spPr>
                <a:xfrm>
                  <a:off x="3352680" y="1676520"/>
                  <a:ext cx="117324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5" name=""/>
          <p:cNvGrpSpPr/>
          <p:nvPr/>
        </p:nvGrpSpPr>
        <p:grpSpPr>
          <a:xfrm>
            <a:off x="457200" y="1981080"/>
            <a:ext cx="3971880" cy="276480"/>
            <a:chOff x="457200" y="1981080"/>
            <a:chExt cx="3971880" cy="276480"/>
          </a:xfrm>
        </p:grpSpPr>
        <p:sp>
          <p:nvSpPr>
            <p:cNvPr id="596" name=""/>
            <p:cNvSpPr/>
            <p:nvPr/>
          </p:nvSpPr>
          <p:spPr>
            <a:xfrm>
              <a:off x="457200" y="198108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ustálené napětí kotvy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7" name=""/>
                <p:cNvSpPr txBox="1"/>
                <p:nvPr/>
              </p:nvSpPr>
              <p:spPr>
                <a:xfrm>
                  <a:off x="3352680" y="1981080"/>
                  <a:ext cx="1076400" cy="2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8" name=""/>
          <p:cNvGrpSpPr/>
          <p:nvPr/>
        </p:nvGrpSpPr>
        <p:grpSpPr>
          <a:xfrm>
            <a:off x="457200" y="2286000"/>
            <a:ext cx="3892680" cy="276480"/>
            <a:chOff x="457200" y="2286000"/>
            <a:chExt cx="3892680" cy="276480"/>
          </a:xfrm>
        </p:grpSpPr>
        <p:sp>
          <p:nvSpPr>
            <p:cNvPr id="599" name=""/>
            <p:cNvSpPr/>
            <p:nvPr/>
          </p:nvSpPr>
          <p:spPr>
            <a:xfrm>
              <a:off x="457200" y="22860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dpor cizího vinutí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0" name=""/>
                <p:cNvSpPr txBox="1"/>
                <p:nvPr/>
              </p:nvSpPr>
              <p:spPr>
                <a:xfrm>
                  <a:off x="3352680" y="2286000"/>
                  <a:ext cx="997200" cy="2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1" name=""/>
          <p:cNvGrpSpPr/>
          <p:nvPr/>
        </p:nvGrpSpPr>
        <p:grpSpPr>
          <a:xfrm>
            <a:off x="457200" y="2590920"/>
            <a:ext cx="3892680" cy="276480"/>
            <a:chOff x="457200" y="2590920"/>
            <a:chExt cx="3892680" cy="276480"/>
          </a:xfrm>
        </p:grpSpPr>
        <p:sp>
          <p:nvSpPr>
            <p:cNvPr id="602" name=""/>
            <p:cNvSpPr/>
            <p:nvPr/>
          </p:nvSpPr>
          <p:spPr>
            <a:xfrm>
              <a:off x="457200" y="259092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ustálené napětí cizího vinutí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3" name=""/>
                <p:cNvSpPr txBox="1"/>
                <p:nvPr/>
              </p:nvSpPr>
              <p:spPr>
                <a:xfrm>
                  <a:off x="3352680" y="2590920"/>
                  <a:ext cx="99720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4" name=""/>
          <p:cNvGrpSpPr/>
          <p:nvPr/>
        </p:nvGrpSpPr>
        <p:grpSpPr>
          <a:xfrm>
            <a:off x="457200" y="3200400"/>
            <a:ext cx="4673520" cy="276480"/>
            <a:chOff x="457200" y="3200400"/>
            <a:chExt cx="4673520" cy="276480"/>
          </a:xfrm>
        </p:grpSpPr>
        <p:sp>
          <p:nvSpPr>
            <p:cNvPr id="605" name=""/>
            <p:cNvSpPr/>
            <p:nvPr/>
          </p:nvSpPr>
          <p:spPr>
            <a:xfrm>
              <a:off x="457200" y="32004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ahoma"/>
                </a:rPr>
                <a:t>konstanty magnetizační charak.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6" name=""/>
                <p:cNvSpPr txBox="1"/>
                <p:nvPr/>
              </p:nvSpPr>
              <p:spPr>
                <a:xfrm>
                  <a:off x="3352680" y="3200400"/>
                  <a:ext cx="1101960" cy="2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5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mW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7" name=""/>
                <p:cNvSpPr txBox="1"/>
                <p:nvPr/>
              </p:nvSpPr>
              <p:spPr>
                <a:xfrm>
                  <a:off x="4648320" y="3200400"/>
                  <a:ext cx="48240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8" name=""/>
          <p:cNvGrpSpPr/>
          <p:nvPr/>
        </p:nvGrpSpPr>
        <p:grpSpPr>
          <a:xfrm>
            <a:off x="457200" y="3505320"/>
            <a:ext cx="4302000" cy="276480"/>
            <a:chOff x="457200" y="3505320"/>
            <a:chExt cx="4302000" cy="276480"/>
          </a:xfrm>
        </p:grpSpPr>
        <p:sp>
          <p:nvSpPr>
            <p:cNvPr id="609" name=""/>
            <p:cNvSpPr/>
            <p:nvPr/>
          </p:nvSpPr>
          <p:spPr>
            <a:xfrm>
              <a:off x="457200" y="350532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agnetický tok při nasycení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3352680" y="3505320"/>
                  <a:ext cx="140652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∞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54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189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W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1" name=""/>
          <p:cNvGrpSpPr/>
          <p:nvPr/>
        </p:nvGrpSpPr>
        <p:grpSpPr>
          <a:xfrm>
            <a:off x="457200" y="2895480"/>
            <a:ext cx="4835520" cy="459000"/>
            <a:chOff x="457200" y="2895480"/>
            <a:chExt cx="4835520" cy="459000"/>
          </a:xfrm>
        </p:grpSpPr>
        <p:sp>
          <p:nvSpPr>
            <p:cNvPr id="612" name=""/>
            <p:cNvSpPr/>
            <p:nvPr/>
          </p:nvSpPr>
          <p:spPr>
            <a:xfrm>
              <a:off x="457200" y="2895480"/>
              <a:ext cx="2666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ahoma"/>
                </a:rPr>
                <a:t>aproximace magnetizační charak.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3" name=""/>
                <p:cNvSpPr txBox="1"/>
                <p:nvPr/>
              </p:nvSpPr>
              <p:spPr>
                <a:xfrm>
                  <a:off x="3352680" y="2895480"/>
                  <a:ext cx="194004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∞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  <m:sup>
                          <m:r>
                            <m:t xml:space="preserve"> </m:t>
                          </m:r>
                          <m:r>
                            <m:t xml:space="preserve">β</m:t>
                          </m:r>
                        </m:sup>
                      </m:sSubSup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4" name=""/>
          <p:cNvGrpSpPr/>
          <p:nvPr/>
        </p:nvGrpSpPr>
        <p:grpSpPr>
          <a:xfrm>
            <a:off x="457200" y="3809880"/>
            <a:ext cx="3983040" cy="276480"/>
            <a:chOff x="457200" y="3809880"/>
            <a:chExt cx="3983040" cy="276480"/>
          </a:xfrm>
        </p:grpSpPr>
        <p:sp>
          <p:nvSpPr>
            <p:cNvPr id="615" name=""/>
            <p:cNvSpPr/>
            <p:nvPr/>
          </p:nvSpPr>
          <p:spPr>
            <a:xfrm>
              <a:off x="457200" y="380988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řecí moment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6" name=""/>
                <p:cNvSpPr txBox="1"/>
                <p:nvPr/>
              </p:nvSpPr>
              <p:spPr>
                <a:xfrm>
                  <a:off x="3352680" y="3809880"/>
                  <a:ext cx="1087560" cy="2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N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7" name=""/>
          <p:cNvGrpSpPr/>
          <p:nvPr/>
        </p:nvGrpSpPr>
        <p:grpSpPr>
          <a:xfrm>
            <a:off x="457200" y="4114800"/>
            <a:ext cx="4219560" cy="285840"/>
            <a:chOff x="457200" y="4114800"/>
            <a:chExt cx="4219560" cy="285840"/>
          </a:xfrm>
        </p:grpSpPr>
        <p:sp>
          <p:nvSpPr>
            <p:cNvPr id="618" name=""/>
            <p:cNvSpPr/>
            <p:nvPr/>
          </p:nvSpPr>
          <p:spPr>
            <a:xfrm>
              <a:off x="457200" y="41148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ominální moment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9" name=""/>
                <p:cNvSpPr txBox="1"/>
                <p:nvPr/>
              </p:nvSpPr>
              <p:spPr>
                <a:xfrm>
                  <a:off x="3352680" y="4114800"/>
                  <a:ext cx="132408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N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0" name=""/>
          <p:cNvGrpSpPr/>
          <p:nvPr/>
        </p:nvGrpSpPr>
        <p:grpSpPr>
          <a:xfrm>
            <a:off x="457200" y="4419720"/>
            <a:ext cx="4248000" cy="298440"/>
            <a:chOff x="457200" y="4419720"/>
            <a:chExt cx="4248000" cy="298440"/>
          </a:xfrm>
        </p:grpSpPr>
        <p:sp>
          <p:nvSpPr>
            <p:cNvPr id="621" name=""/>
            <p:cNvSpPr/>
            <p:nvPr/>
          </p:nvSpPr>
          <p:spPr>
            <a:xfrm>
              <a:off x="457200" y="441972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ominální otáčky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2" name=""/>
                <p:cNvSpPr txBox="1"/>
                <p:nvPr/>
              </p:nvSpPr>
              <p:spPr>
                <a:xfrm>
                  <a:off x="3352680" y="4419720"/>
                  <a:ext cx="135252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00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3" name=""/>
          <p:cNvGrpSpPr/>
          <p:nvPr/>
        </p:nvGrpSpPr>
        <p:grpSpPr>
          <a:xfrm>
            <a:off x="457200" y="4724280"/>
            <a:ext cx="3403440" cy="459000"/>
            <a:chOff x="457200" y="4724280"/>
            <a:chExt cx="3403440" cy="459000"/>
          </a:xfrm>
        </p:grpSpPr>
        <p:sp>
          <p:nvSpPr>
            <p:cNvPr id="624" name=""/>
            <p:cNvSpPr/>
            <p:nvPr/>
          </p:nvSpPr>
          <p:spPr>
            <a:xfrm>
              <a:off x="457200" y="4724280"/>
              <a:ext cx="2666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xponent zatěžující charakteristiky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5" name=""/>
                <p:cNvSpPr txBox="1"/>
                <p:nvPr/>
              </p:nvSpPr>
              <p:spPr>
                <a:xfrm>
                  <a:off x="3352680" y="4800600"/>
                  <a:ext cx="507960" cy="20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6" name=""/>
          <p:cNvGrpSpPr/>
          <p:nvPr/>
        </p:nvGrpSpPr>
        <p:grpSpPr>
          <a:xfrm>
            <a:off x="457200" y="5029200"/>
            <a:ext cx="5184720" cy="299880"/>
            <a:chOff x="457200" y="5029200"/>
            <a:chExt cx="5184720" cy="299880"/>
          </a:xfrm>
        </p:grpSpPr>
        <p:sp>
          <p:nvSpPr>
            <p:cNvPr id="627" name=""/>
            <p:cNvSpPr/>
            <p:nvPr/>
          </p:nvSpPr>
          <p:spPr>
            <a:xfrm>
              <a:off x="457200" y="5029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harakteristika tuhosti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8" name=""/>
                <p:cNvSpPr txBox="1"/>
                <p:nvPr/>
              </p:nvSpPr>
              <p:spPr>
                <a:xfrm>
                  <a:off x="3352680" y="5029200"/>
                  <a:ext cx="2289240" cy="29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ψ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ψ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sSup>
                        <m:e>
                          <m:r>
                            <m:t xml:space="preserve">ψ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 </m:t>
                      </m:r>
                      <m:sSup>
                        <m:e>
                          <m:r>
                            <m:t xml:space="preserve">ψ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9" name=""/>
          <p:cNvGrpSpPr/>
          <p:nvPr/>
        </p:nvGrpSpPr>
        <p:grpSpPr>
          <a:xfrm>
            <a:off x="457200" y="5334120"/>
            <a:ext cx="4670280" cy="285480"/>
            <a:chOff x="457200" y="5334120"/>
            <a:chExt cx="4670280" cy="285480"/>
          </a:xfrm>
        </p:grpSpPr>
        <p:sp>
          <p:nvSpPr>
            <p:cNvPr id="630" name=""/>
            <p:cNvSpPr/>
            <p:nvPr/>
          </p:nvSpPr>
          <p:spPr>
            <a:xfrm>
              <a:off x="457200" y="533412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zesílení lineárního členu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1" name=""/>
                <p:cNvSpPr txBox="1"/>
                <p:nvPr/>
              </p:nvSpPr>
              <p:spPr>
                <a:xfrm>
                  <a:off x="3352680" y="5334120"/>
                  <a:ext cx="177480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3927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Nm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2" name=""/>
          <p:cNvGrpSpPr/>
          <p:nvPr/>
        </p:nvGrpSpPr>
        <p:grpSpPr>
          <a:xfrm>
            <a:off x="457200" y="5638680"/>
            <a:ext cx="4608360" cy="285840"/>
            <a:chOff x="457200" y="5638680"/>
            <a:chExt cx="4608360" cy="285840"/>
          </a:xfrm>
        </p:grpSpPr>
        <p:sp>
          <p:nvSpPr>
            <p:cNvPr id="633" name=""/>
            <p:cNvSpPr/>
            <p:nvPr/>
          </p:nvSpPr>
          <p:spPr>
            <a:xfrm>
              <a:off x="457200" y="563868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zesílení kvadratického členu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4" name=""/>
                <p:cNvSpPr txBox="1"/>
                <p:nvPr/>
              </p:nvSpPr>
              <p:spPr>
                <a:xfrm>
                  <a:off x="3352680" y="5638680"/>
                  <a:ext cx="171288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927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Nm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5" name=""/>
          <p:cNvGrpSpPr/>
          <p:nvPr/>
        </p:nvGrpSpPr>
        <p:grpSpPr>
          <a:xfrm>
            <a:off x="457200" y="5943600"/>
            <a:ext cx="4619520" cy="299880"/>
            <a:chOff x="457200" y="5943600"/>
            <a:chExt cx="4619520" cy="299880"/>
          </a:xfrm>
        </p:grpSpPr>
        <p:sp>
          <p:nvSpPr>
            <p:cNvPr id="636" name=""/>
            <p:cNvSpPr/>
            <p:nvPr/>
          </p:nvSpPr>
          <p:spPr>
            <a:xfrm>
              <a:off x="457200" y="59436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zesílení kubického členu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7" name=""/>
                <p:cNvSpPr txBox="1"/>
                <p:nvPr/>
              </p:nvSpPr>
              <p:spPr>
                <a:xfrm>
                  <a:off x="3352680" y="5943600"/>
                  <a:ext cx="1724040" cy="29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9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Nm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0" y="3808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odnoty parametrů pohonu v rovnovážném stavu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380880" y="1828800"/>
            <a:ext cx="4557960" cy="276480"/>
            <a:chOff x="380880" y="1828800"/>
            <a:chExt cx="4557960" cy="276480"/>
          </a:xfrm>
        </p:grpSpPr>
        <p:sp>
          <p:nvSpPr>
            <p:cNvPr id="640" name=""/>
            <p:cNvSpPr/>
            <p:nvPr/>
          </p:nvSpPr>
          <p:spPr>
            <a:xfrm>
              <a:off x="380880" y="1828800"/>
              <a:ext cx="289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ahoma"/>
                </a:rPr>
                <a:t>indukčnost cívky cizího vinutí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1" name=""/>
                <p:cNvSpPr txBox="1"/>
                <p:nvPr/>
              </p:nvSpPr>
              <p:spPr>
                <a:xfrm>
                  <a:off x="3581280" y="1828800"/>
                  <a:ext cx="1357560" cy="2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9675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2" name=""/>
          <p:cNvGrpSpPr/>
          <p:nvPr/>
        </p:nvGrpSpPr>
        <p:grpSpPr>
          <a:xfrm>
            <a:off x="380880" y="1523880"/>
            <a:ext cx="4597560" cy="287280"/>
            <a:chOff x="380880" y="1523880"/>
            <a:chExt cx="4597560" cy="287280"/>
          </a:xfrm>
        </p:grpSpPr>
        <p:sp>
          <p:nvSpPr>
            <p:cNvPr id="643" name=""/>
            <p:cNvSpPr/>
            <p:nvPr/>
          </p:nvSpPr>
          <p:spPr>
            <a:xfrm>
              <a:off x="380880" y="1523880"/>
              <a:ext cx="289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agnetický tok cívky cizího vinutí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4" name=""/>
                <p:cNvSpPr txBox="1"/>
                <p:nvPr/>
              </p:nvSpPr>
              <p:spPr>
                <a:xfrm>
                  <a:off x="3581280" y="1523880"/>
                  <a:ext cx="139716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4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254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W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5" name=""/>
          <p:cNvGrpSpPr/>
          <p:nvPr/>
        </p:nvGrpSpPr>
        <p:grpSpPr>
          <a:xfrm>
            <a:off x="380880" y="1219320"/>
            <a:ext cx="4308480" cy="285480"/>
            <a:chOff x="380880" y="1219320"/>
            <a:chExt cx="4308480" cy="285480"/>
          </a:xfrm>
        </p:grpSpPr>
        <p:sp>
          <p:nvSpPr>
            <p:cNvPr id="646" name=""/>
            <p:cNvSpPr/>
            <p:nvPr/>
          </p:nvSpPr>
          <p:spPr>
            <a:xfrm>
              <a:off x="380880" y="1219320"/>
              <a:ext cx="289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oud v cívce cizího vinutí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3581280" y="1219320"/>
                  <a:ext cx="110808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F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000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8" name=""/>
          <p:cNvGrpSpPr/>
          <p:nvPr/>
        </p:nvGrpSpPr>
        <p:grpSpPr>
          <a:xfrm>
            <a:off x="380880" y="2133720"/>
            <a:ext cx="5799240" cy="299880"/>
            <a:chOff x="380880" y="2133720"/>
            <a:chExt cx="5799240" cy="299880"/>
          </a:xfrm>
        </p:grpSpPr>
        <p:sp>
          <p:nvSpPr>
            <p:cNvPr id="649" name=""/>
            <p:cNvSpPr/>
            <p:nvPr/>
          </p:nvSpPr>
          <p:spPr>
            <a:xfrm>
              <a:off x="380880" y="2133720"/>
              <a:ext cx="289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elativní úhlová výchylka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0" name=""/>
                <p:cNvSpPr txBox="1"/>
                <p:nvPr/>
              </p:nvSpPr>
              <p:spPr>
                <a:xfrm>
                  <a:off x="3581280" y="2133720"/>
                  <a:ext cx="2598840" cy="29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148241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rad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4936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O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1" name=""/>
          <p:cNvGrpSpPr/>
          <p:nvPr/>
        </p:nvGrpSpPr>
        <p:grpSpPr>
          <a:xfrm>
            <a:off x="380880" y="914400"/>
            <a:ext cx="4308480" cy="285840"/>
            <a:chOff x="380880" y="914400"/>
            <a:chExt cx="4308480" cy="285840"/>
          </a:xfrm>
        </p:grpSpPr>
        <mc:AlternateContent>
          <mc:Choice xmlns:a14="http://schemas.microsoft.com/office/drawing/2010/main" Requires="a14">
            <p:sp>
              <p:nvSpPr>
                <p:cNvPr id="652" name=""/>
                <p:cNvSpPr txBox="1"/>
                <p:nvPr/>
              </p:nvSpPr>
              <p:spPr>
                <a:xfrm>
                  <a:off x="3581280" y="914400"/>
                  <a:ext cx="110808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915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3" name=""/>
            <p:cNvSpPr/>
            <p:nvPr/>
          </p:nvSpPr>
          <p:spPr>
            <a:xfrm>
              <a:off x="380880" y="914400"/>
              <a:ext cx="289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oud v cívce kotvy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80880" y="2438280"/>
            <a:ext cx="4606920" cy="276480"/>
            <a:chOff x="380880" y="2438280"/>
            <a:chExt cx="4606920" cy="276480"/>
          </a:xfrm>
        </p:grpSpPr>
        <p:sp>
          <p:nvSpPr>
            <p:cNvPr id="655" name=""/>
            <p:cNvSpPr/>
            <p:nvPr/>
          </p:nvSpPr>
          <p:spPr>
            <a:xfrm>
              <a:off x="380880" y="2438280"/>
              <a:ext cx="289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časová konstanta obvodu kotvy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6" name=""/>
                <p:cNvSpPr txBox="1"/>
                <p:nvPr/>
              </p:nvSpPr>
              <p:spPr>
                <a:xfrm>
                  <a:off x="3581280" y="2438280"/>
                  <a:ext cx="1406520" cy="2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202532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ms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7" name=""/>
          <p:cNvGrpSpPr/>
          <p:nvPr/>
        </p:nvGrpSpPr>
        <p:grpSpPr>
          <a:xfrm>
            <a:off x="380880" y="2743200"/>
            <a:ext cx="4614840" cy="459000"/>
            <a:chOff x="380880" y="2743200"/>
            <a:chExt cx="4614840" cy="459000"/>
          </a:xfrm>
        </p:grpSpPr>
        <p:sp>
          <p:nvSpPr>
            <p:cNvPr id="658" name=""/>
            <p:cNvSpPr/>
            <p:nvPr/>
          </p:nvSpPr>
          <p:spPr>
            <a:xfrm>
              <a:off x="380880" y="2743200"/>
              <a:ext cx="2895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časová konstanta obvodu cizího vinutí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9" name=""/>
                <p:cNvSpPr txBox="1"/>
                <p:nvPr/>
              </p:nvSpPr>
              <p:spPr>
                <a:xfrm>
                  <a:off x="3581280" y="2743200"/>
                  <a:ext cx="1414440" cy="26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498376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ms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0" name=""/>
          <p:cNvSpPr/>
          <p:nvPr/>
        </p:nvSpPr>
        <p:spPr>
          <a:xfrm>
            <a:off x="0" y="33526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Znázornění rozrušeného pohybu ve fázové rovině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37339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ásledující typy poruchových funkcí pracovního stroj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505320" y="426708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. lichoběžníkový impu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80880" y="464832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. obdélníková křiv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505320" y="46483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. obdélníkový impu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80880" y="5029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. parabolická křiv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80880" y="426708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 lichoběžníková křiv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505320" y="50292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. pilovitý impu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80880" y="541008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7. přechodová křiv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0880" y="579132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9. trojúhelníková křiv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505320" y="57913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0. trojúhelníkový impu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505320" y="541008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. jednocestný sinusový impu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Lichoběžníková křivka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2743200" y="304920"/>
          <a:ext cx="6276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920"/>
                    <a:ext cx="6276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Lichoběžníkový impul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2743200" y="304920"/>
          <a:ext cx="6276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920"/>
                    <a:ext cx="6276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Obdélníková křivka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2743200" y="304920"/>
          <a:ext cx="6276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920"/>
                    <a:ext cx="6276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Obdélníkový impul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2743200" y="304920"/>
          <a:ext cx="6276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920"/>
                    <a:ext cx="6276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Parabolická křivka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2666880" y="304920"/>
          <a:ext cx="633420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04920"/>
                    <a:ext cx="63342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Pilovitý impul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2895480" y="304920"/>
          <a:ext cx="617220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04920"/>
                    <a:ext cx="61722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Přechodová křivka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2743200" y="304920"/>
          <a:ext cx="6276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920"/>
                    <a:ext cx="6276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3808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odelování a simulace pohonových sousta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990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ílčí etap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37160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tavení účelových a částečně strukturovaných modelů základní  mechanické (elektromechanické, …) struktury poho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9810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ytvoření modelů záběrových podmínek a kinematického buzení u převodových subsoust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25909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ytvoření modelu vnějšího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47242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ely technologických, hnacích i parazitních budících účin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571500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el logicko-informačních vaz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97180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mulovat návrh řízení pohonové soust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3526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avrhnout způsob integrace základních struktur, vnějšího prostředí a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42670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ále je zapotřebí zná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51055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algoritmizovatelné požadavky na řízení z hlediska technologie, provozu, bezpečnosti, energetických nároků či omezení, ekologie ap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76320" y="457200"/>
            <a:ext cx="25905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Sinusový jednocestný impul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2819520" y="304920"/>
          <a:ext cx="617220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04920"/>
                    <a:ext cx="61722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Trojúhelníková křivka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2743200" y="304920"/>
          <a:ext cx="6276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920"/>
                    <a:ext cx="6276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Trojúhelníkový impul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2743200" y="304920"/>
          <a:ext cx="6276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920"/>
                    <a:ext cx="6276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2057400" y="152388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ahoma"/>
              </a:rPr>
              <a:t>Poděkován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33520" y="2819520"/>
            <a:ext cx="822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Článek vznikl na základě prací podporovaných projekty MSM 262100024 a IBS 2076353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4" name=""/>
          <p:cNvGraphicFramePr/>
          <p:nvPr/>
        </p:nvGraphicFramePr>
        <p:xfrm>
          <a:off x="5334120" y="3581280"/>
          <a:ext cx="2504880" cy="25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581280"/>
                    <a:ext cx="250488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6" name="" descr=""/>
          <p:cNvPicPr/>
          <p:nvPr/>
        </p:nvPicPr>
        <p:blipFill>
          <a:blip r:embed="rId3"/>
          <a:stretch/>
        </p:blipFill>
        <p:spPr>
          <a:xfrm>
            <a:off x="990720" y="3352680"/>
            <a:ext cx="2786040" cy="288144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4"/>
          <a:stretch/>
        </p:blipFill>
        <p:spPr>
          <a:xfrm>
            <a:off x="762120" y="304920"/>
            <a:ext cx="3317760" cy="276840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5"/>
          <a:stretch/>
        </p:blipFill>
        <p:spPr>
          <a:xfrm>
            <a:off x="5334120" y="533520"/>
            <a:ext cx="254772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143000" y="251460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f0000"/>
                </a:solidFill>
                <a:latin typeface="Tahoma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280" y="533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lokové schéma řízené pohonové soust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590920" y="2057400"/>
            <a:ext cx="4267080" cy="2181240"/>
            <a:chOff x="2590920" y="2057400"/>
            <a:chExt cx="4267080" cy="2181240"/>
          </a:xfrm>
        </p:grpSpPr>
        <p:grpSp>
          <p:nvGrpSpPr>
            <p:cNvPr id="98" name=""/>
            <p:cNvGrpSpPr/>
            <p:nvPr/>
          </p:nvGrpSpPr>
          <p:grpSpPr>
            <a:xfrm>
              <a:off x="3276720" y="3276720"/>
              <a:ext cx="1523880" cy="761760"/>
              <a:chOff x="3276720" y="3276720"/>
              <a:chExt cx="1523880" cy="761760"/>
            </a:xfrm>
          </p:grpSpPr>
          <p:sp>
            <p:nvSpPr>
              <p:cNvPr id="99" name=""/>
              <p:cNvSpPr/>
              <p:nvPr/>
            </p:nvSpPr>
            <p:spPr>
              <a:xfrm>
                <a:off x="3276720" y="3276720"/>
                <a:ext cx="1523880" cy="761760"/>
              </a:xfrm>
              <a:prstGeom prst="rect">
                <a:avLst/>
              </a:prstGeom>
              <a:solidFill>
                <a:srgbClr val="c0c0c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581280" y="3504960"/>
                <a:ext cx="838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řízení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4800600" y="2583000"/>
              <a:ext cx="507960" cy="1074600"/>
            </a:xfrm>
            <a:custGeom>
              <a:avLst/>
              <a:gdLst/>
              <a:ahLst/>
              <a:rect l="l" t="t" r="r" b="b"/>
              <a:pathLst>
                <a:path w="320" h="677">
                  <a:moveTo>
                    <a:pt x="320" y="0"/>
                  </a:moveTo>
                  <a:lnTo>
                    <a:pt x="315" y="677"/>
                  </a:lnTo>
                  <a:lnTo>
                    <a:pt x="0" y="677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43200" y="2819520"/>
              <a:ext cx="533520" cy="838080"/>
            </a:xfrm>
            <a:custGeom>
              <a:avLst/>
              <a:gdLst/>
              <a:ahLst/>
              <a:rect l="l" t="t" r="r" b="b"/>
              <a:pathLst>
                <a:path w="336" h="528">
                  <a:moveTo>
                    <a:pt x="336" y="528"/>
                  </a:moveTo>
                  <a:lnTo>
                    <a:pt x="0" y="528"/>
                  </a:lnTo>
                  <a:lnTo>
                    <a:pt x="0" y="0"/>
                  </a:lnTo>
                  <a:lnTo>
                    <a:pt x="336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90920" y="2057400"/>
              <a:ext cx="2971800" cy="2133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38680" y="3505320"/>
              <a:ext cx="1219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ahoma"/>
                </a:rPr>
                <a:t>vnitřní regulovaná soust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676520" y="2583000"/>
            <a:ext cx="6400800" cy="3210480"/>
            <a:chOff x="1676520" y="2583000"/>
            <a:chExt cx="6400800" cy="3210480"/>
          </a:xfrm>
        </p:grpSpPr>
        <p:grpSp>
          <p:nvGrpSpPr>
            <p:cNvPr id="106" name=""/>
            <p:cNvGrpSpPr/>
            <p:nvPr/>
          </p:nvGrpSpPr>
          <p:grpSpPr>
            <a:xfrm>
              <a:off x="3276720" y="4343400"/>
              <a:ext cx="1752120" cy="762120"/>
              <a:chOff x="3276720" y="4343400"/>
              <a:chExt cx="1752120" cy="762120"/>
            </a:xfrm>
          </p:grpSpPr>
          <p:sp>
            <p:nvSpPr>
              <p:cNvPr id="107" name=""/>
              <p:cNvSpPr/>
              <p:nvPr/>
            </p:nvSpPr>
            <p:spPr>
              <a:xfrm>
                <a:off x="3276720" y="4343400"/>
                <a:ext cx="1523880" cy="762120"/>
              </a:xfrm>
              <a:prstGeom prst="rect">
                <a:avLst/>
              </a:prstGeom>
              <a:solidFill>
                <a:srgbClr val="c0c0c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429000" y="4496040"/>
                <a:ext cx="159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ahoma"/>
                  </a:rPr>
                  <a:t>hodnocení regu-lované veličin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4800600" y="2583000"/>
              <a:ext cx="3198960" cy="2141280"/>
            </a:xfrm>
            <a:custGeom>
              <a:avLst/>
              <a:gdLst/>
              <a:ahLst/>
              <a:rect l="l" t="t" r="r" b="b"/>
              <a:pathLst>
                <a:path w="2015" h="1349">
                  <a:moveTo>
                    <a:pt x="2015" y="0"/>
                  </a:moveTo>
                  <a:lnTo>
                    <a:pt x="2009" y="1342"/>
                  </a:lnTo>
                  <a:lnTo>
                    <a:pt x="0" y="134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76520" y="2971800"/>
              <a:ext cx="1600200" cy="1752480"/>
            </a:xfrm>
            <a:custGeom>
              <a:avLst/>
              <a:gdLst/>
              <a:ahLst/>
              <a:rect l="l" t="t" r="r" b="b"/>
              <a:pathLst>
                <a:path w="1008" h="1104">
                  <a:moveTo>
                    <a:pt x="0" y="0"/>
                  </a:moveTo>
                  <a:lnTo>
                    <a:pt x="0" y="1104"/>
                  </a:lnTo>
                  <a:lnTo>
                    <a:pt x="1008" y="1104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81480" y="4724280"/>
              <a:ext cx="2895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tav technologického výrobního proces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961800" y="5181480"/>
              <a:ext cx="609480" cy="533520"/>
            </a:xfrm>
            <a:custGeom>
              <a:avLst/>
              <a:gdLst>
                <a:gd name="textAreaLeft" fmla="*/ 295560 w 609480"/>
                <a:gd name="textAreaRight" fmla="*/ 504720 w 609480"/>
                <a:gd name="textAreaTop" fmla="*/ 351720 h 533520"/>
                <a:gd name="textAreaBottom" fmla="*/ 4420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943"/>
                  </a:moveTo>
                  <a:lnTo>
                    <a:pt x="14231" y="17943"/>
                  </a:lnTo>
                  <a:lnTo>
                    <a:pt x="14231" y="10479"/>
                  </a:lnTo>
                  <a:lnTo>
                    <a:pt x="10519" y="10479"/>
                  </a:lnTo>
                  <a:lnTo>
                    <a:pt x="16060" y="0"/>
                  </a:lnTo>
                  <a:lnTo>
                    <a:pt x="21600" y="10479"/>
                  </a:lnTo>
                  <a:lnTo>
                    <a:pt x="17888" y="10479"/>
                  </a:lnTo>
                  <a:lnTo>
                    <a:pt x="1788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48320" y="5486400"/>
              <a:ext cx="32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Tahoma"/>
                </a:rPr>
                <a:t>nadřazená technologická regul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52280" y="1981080"/>
            <a:ext cx="8915400" cy="3507120"/>
            <a:chOff x="152280" y="1981080"/>
            <a:chExt cx="8915400" cy="3507120"/>
          </a:xfrm>
        </p:grpSpPr>
        <p:grpSp>
          <p:nvGrpSpPr>
            <p:cNvPr id="115" name=""/>
            <p:cNvGrpSpPr/>
            <p:nvPr/>
          </p:nvGrpSpPr>
          <p:grpSpPr>
            <a:xfrm>
              <a:off x="838080" y="2209680"/>
              <a:ext cx="1600200" cy="762120"/>
              <a:chOff x="838080" y="2209680"/>
              <a:chExt cx="1600200" cy="762120"/>
            </a:xfrm>
          </p:grpSpPr>
          <p:sp>
            <p:nvSpPr>
              <p:cNvPr id="116" name=""/>
              <p:cNvSpPr/>
              <p:nvPr/>
            </p:nvSpPr>
            <p:spPr>
              <a:xfrm>
                <a:off x="838080" y="2209680"/>
                <a:ext cx="1523880" cy="762120"/>
              </a:xfrm>
              <a:prstGeom prst="rect">
                <a:avLst/>
              </a:prstGeom>
              <a:solidFill>
                <a:srgbClr val="c0c0c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66680" y="236196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technologický regulát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276720" y="2209680"/>
              <a:ext cx="1523880" cy="762120"/>
              <a:chOff x="3276720" y="2209680"/>
              <a:chExt cx="1523880" cy="762120"/>
            </a:xfrm>
          </p:grpSpPr>
          <p:sp>
            <p:nvSpPr>
              <p:cNvPr id="119" name=""/>
              <p:cNvSpPr/>
              <p:nvPr/>
            </p:nvSpPr>
            <p:spPr>
              <a:xfrm>
                <a:off x="3276720" y="2209680"/>
                <a:ext cx="1523880" cy="762120"/>
              </a:xfrm>
              <a:prstGeom prst="rect">
                <a:avLst/>
              </a:prstGeom>
              <a:solidFill>
                <a:srgbClr val="c0c0c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429000" y="236232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řízený pohon strojní soustav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943600" y="2209680"/>
              <a:ext cx="1752480" cy="761760"/>
              <a:chOff x="5943600" y="2209680"/>
              <a:chExt cx="1752480" cy="761760"/>
            </a:xfrm>
          </p:grpSpPr>
          <p:sp>
            <p:nvSpPr>
              <p:cNvPr id="122" name=""/>
              <p:cNvSpPr/>
              <p:nvPr/>
            </p:nvSpPr>
            <p:spPr>
              <a:xfrm>
                <a:off x="5943600" y="2209680"/>
                <a:ext cx="1523880" cy="761760"/>
              </a:xfrm>
              <a:prstGeom prst="rect">
                <a:avLst/>
              </a:prstGeom>
              <a:solidFill>
                <a:srgbClr val="c0c0c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095880" y="2361960"/>
                <a:ext cx="1600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ahoma"/>
                  </a:rPr>
                  <a:t>model technolo-gického proces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372960" y="2590920"/>
              <a:ext cx="2184480" cy="2735280"/>
            </a:xfrm>
            <a:custGeom>
              <a:avLst/>
              <a:gdLst/>
              <a:ahLst/>
              <a:rect l="l" t="t" r="r" b="b"/>
              <a:pathLst>
                <a:path w="1376" h="1723">
                  <a:moveTo>
                    <a:pt x="293" y="0"/>
                  </a:moveTo>
                  <a:lnTo>
                    <a:pt x="5" y="0"/>
                  </a:lnTo>
                  <a:lnTo>
                    <a:pt x="0" y="1723"/>
                  </a:lnTo>
                  <a:lnTo>
                    <a:pt x="1376" y="1723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62320" y="2590920"/>
              <a:ext cx="914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0600" y="2590920"/>
              <a:ext cx="1138320" cy="1440"/>
            </a:xfrm>
            <a:custGeom>
              <a:avLst/>
              <a:gdLst/>
              <a:ahLst/>
              <a:rect l="l" t="t" r="r" b="b"/>
              <a:pathLst>
                <a:path w="717" h="1">
                  <a:moveTo>
                    <a:pt x="0" y="0"/>
                  </a:moveTo>
                  <a:lnTo>
                    <a:pt x="717" y="1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67480" y="2590920"/>
              <a:ext cx="12193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" y="5029200"/>
              <a:ext cx="19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žádané počáteční hodno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1981080"/>
              <a:ext cx="1523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Výstup: regulovaná stavová velič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2280" y="213372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Vst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143000" y="1295280"/>
            <a:ext cx="1676520" cy="838440"/>
            <a:chOff x="1143000" y="1295280"/>
            <a:chExt cx="1676520" cy="838440"/>
          </a:xfrm>
        </p:grpSpPr>
        <p:sp>
          <p:nvSpPr>
            <p:cNvPr id="132" name=""/>
            <p:cNvSpPr/>
            <p:nvPr/>
          </p:nvSpPr>
          <p:spPr>
            <a:xfrm>
              <a:off x="1143000" y="1371600"/>
              <a:ext cx="457200" cy="762120"/>
            </a:xfrm>
            <a:prstGeom prst="lightningBol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7920" y="129528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oruchy regul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505320" y="1295280"/>
            <a:ext cx="1600200" cy="838440"/>
            <a:chOff x="3505320" y="1295280"/>
            <a:chExt cx="1600200" cy="838440"/>
          </a:xfrm>
        </p:grpSpPr>
        <p:sp>
          <p:nvSpPr>
            <p:cNvPr id="135" name=""/>
            <p:cNvSpPr/>
            <p:nvPr/>
          </p:nvSpPr>
          <p:spPr>
            <a:xfrm>
              <a:off x="3505320" y="1371600"/>
              <a:ext cx="457200" cy="762120"/>
            </a:xfrm>
            <a:prstGeom prst="lightningBol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9880" y="1295280"/>
              <a:ext cx="129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oruchy pohon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172200" y="1295280"/>
            <a:ext cx="2133720" cy="838440"/>
            <a:chOff x="6172200" y="1295280"/>
            <a:chExt cx="2133720" cy="838440"/>
          </a:xfrm>
        </p:grpSpPr>
        <p:sp>
          <p:nvSpPr>
            <p:cNvPr id="138" name=""/>
            <p:cNvSpPr/>
            <p:nvPr/>
          </p:nvSpPr>
          <p:spPr>
            <a:xfrm>
              <a:off x="6172200" y="1371600"/>
              <a:ext cx="457200" cy="762120"/>
            </a:xfrm>
            <a:prstGeom prst="lightningBol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7120" y="129528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echnologické poruc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odelová soustava pohonu válcovací st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09480" y="1371600"/>
            <a:ext cx="7239240" cy="4267080"/>
            <a:chOff x="609480" y="1371600"/>
            <a:chExt cx="7239240" cy="4267080"/>
          </a:xfrm>
        </p:grpSpPr>
        <p:sp>
          <p:nvSpPr>
            <p:cNvPr id="142" name=""/>
            <p:cNvSpPr/>
            <p:nvPr/>
          </p:nvSpPr>
          <p:spPr>
            <a:xfrm>
              <a:off x="762120" y="4343400"/>
              <a:ext cx="1295280" cy="762120"/>
            </a:xfrm>
            <a:prstGeom prst="flowChartAlternateProcess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914400" y="4343040"/>
              <a:ext cx="0" cy="762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905120" y="4343040"/>
              <a:ext cx="0" cy="762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66880" y="4495680"/>
              <a:ext cx="152640" cy="4572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66880" y="3505320"/>
              <a:ext cx="152640" cy="914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2743200" y="3885840"/>
              <a:ext cx="1066680" cy="152280"/>
            </a:xfrm>
            <a:custGeom>
              <a:avLst/>
              <a:gdLst>
                <a:gd name="textAreaLeft" fmla="*/ 194400 w 1066680"/>
                <a:gd name="textAreaRight" fmla="*/ 872280 w 1066680"/>
                <a:gd name="textAreaTop" fmla="*/ 27720 h 152280"/>
                <a:gd name="textAreaBottom" fmla="*/ 12456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662" y="21600"/>
                  </a:lnTo>
                  <a:lnTo>
                    <a:pt x="39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76720" y="3352680"/>
              <a:ext cx="1066680" cy="152640"/>
            </a:xfrm>
            <a:custGeom>
              <a:avLst/>
              <a:gdLst>
                <a:gd name="textAreaLeft" fmla="*/ 194400 w 1066680"/>
                <a:gd name="textAreaRight" fmla="*/ 872280 w 1066680"/>
                <a:gd name="textAreaTop" fmla="*/ 27720 h 152640"/>
                <a:gd name="textAreaBottom" fmla="*/ 12492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662" y="21600"/>
                  </a:lnTo>
                  <a:lnTo>
                    <a:pt x="39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6200000">
              <a:off x="3733560" y="144720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495680" y="1218960"/>
              <a:ext cx="152280" cy="914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6200000">
              <a:off x="4495680" y="198072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5410080" y="1600200"/>
              <a:ext cx="152280" cy="12189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5410080" y="144720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324480" y="1066680"/>
              <a:ext cx="152280" cy="12189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5400000">
              <a:off x="6324480" y="2057400"/>
              <a:ext cx="152640" cy="914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400000">
              <a:off x="7315200" y="2057400"/>
              <a:ext cx="152640" cy="914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95880" y="3581280"/>
              <a:ext cx="609840" cy="19051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86600" y="3581280"/>
              <a:ext cx="609480" cy="19051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57400" y="4648320"/>
              <a:ext cx="60948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19520" y="3886200"/>
              <a:ext cx="38088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4381200" y="1866240"/>
              <a:ext cx="381240" cy="1526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3009960" y="2476080"/>
              <a:ext cx="160020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5295600" y="1866240"/>
              <a:ext cx="381240" cy="1526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200000">
              <a:off x="6057720" y="2018520"/>
              <a:ext cx="685800" cy="1526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6896160" y="3009600"/>
              <a:ext cx="99036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5905440" y="3009240"/>
              <a:ext cx="990360" cy="1526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809880" y="1371600"/>
              <a:ext cx="0" cy="228600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14600" y="3962520"/>
              <a:ext cx="91440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09480" y="4724280"/>
              <a:ext cx="228600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0" y="1523880"/>
              <a:ext cx="0" cy="83844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86400" y="1523880"/>
              <a:ext cx="0" cy="83844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1523880"/>
              <a:ext cx="0" cy="411480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91520" y="2362320"/>
              <a:ext cx="0" cy="327636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57200" y="3581280"/>
            <a:ext cx="1752480" cy="1828800"/>
            <a:chOff x="457200" y="3581280"/>
            <a:chExt cx="1752480" cy="1828800"/>
          </a:xfrm>
        </p:grpSpPr>
        <p:sp>
          <p:nvSpPr>
            <p:cNvPr id="175" name=""/>
            <p:cNvSpPr/>
            <p:nvPr/>
          </p:nvSpPr>
          <p:spPr>
            <a:xfrm>
              <a:off x="533520" y="4038480"/>
              <a:ext cx="1676160" cy="137160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" y="35812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Mo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362320" y="3124080"/>
            <a:ext cx="2209680" cy="2700000"/>
            <a:chOff x="2362320" y="3124080"/>
            <a:chExt cx="2209680" cy="2700000"/>
          </a:xfrm>
        </p:grpSpPr>
        <p:sp>
          <p:nvSpPr>
            <p:cNvPr id="178" name=""/>
            <p:cNvSpPr/>
            <p:nvPr/>
          </p:nvSpPr>
          <p:spPr>
            <a:xfrm>
              <a:off x="2438280" y="3124080"/>
              <a:ext cx="2133720" cy="198144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518148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0000"/>
                  </a:solidFill>
                  <a:latin typeface="Tahoma"/>
                </a:rPr>
                <a:t>Kuželočelní převodov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066680" y="1371600"/>
            <a:ext cx="7010640" cy="1447920"/>
            <a:chOff x="1066680" y="1371600"/>
            <a:chExt cx="7010640" cy="1447920"/>
          </a:xfrm>
        </p:grpSpPr>
        <p:sp>
          <p:nvSpPr>
            <p:cNvPr id="181" name=""/>
            <p:cNvSpPr/>
            <p:nvPr/>
          </p:nvSpPr>
          <p:spPr>
            <a:xfrm>
              <a:off x="3276720" y="1371600"/>
              <a:ext cx="4800600" cy="14479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66680" y="1371600"/>
              <a:ext cx="2133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Převodovka s čelním ozubení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791320" y="3352680"/>
            <a:ext cx="2209680" cy="2806920"/>
            <a:chOff x="5791320" y="3352680"/>
            <a:chExt cx="2209680" cy="2806920"/>
          </a:xfrm>
        </p:grpSpPr>
        <p:sp>
          <p:nvSpPr>
            <p:cNvPr id="184" name=""/>
            <p:cNvSpPr/>
            <p:nvPr/>
          </p:nvSpPr>
          <p:spPr>
            <a:xfrm>
              <a:off x="5867280" y="3352680"/>
              <a:ext cx="2057400" cy="23623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1320" y="579132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Válcovací stol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457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Model mechanického subsystému poh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914400" y="990720"/>
            <a:ext cx="1371600" cy="1904760"/>
            <a:chOff x="914400" y="990720"/>
            <a:chExt cx="1371600" cy="1904760"/>
          </a:xfrm>
        </p:grpSpPr>
        <p:sp>
          <p:nvSpPr>
            <p:cNvPr id="188" name=""/>
            <p:cNvSpPr/>
            <p:nvPr/>
          </p:nvSpPr>
          <p:spPr>
            <a:xfrm>
              <a:off x="1143000" y="1371600"/>
              <a:ext cx="304920" cy="15238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47920" y="2057400"/>
              <a:ext cx="83808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14400" y="99072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o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438280" y="990720"/>
            <a:ext cx="1981440" cy="1904760"/>
            <a:chOff x="2438280" y="990720"/>
            <a:chExt cx="1981440" cy="1904760"/>
          </a:xfrm>
        </p:grpSpPr>
        <p:sp>
          <p:nvSpPr>
            <p:cNvPr id="192" name=""/>
            <p:cNvSpPr/>
            <p:nvPr/>
          </p:nvSpPr>
          <p:spPr>
            <a:xfrm>
              <a:off x="3276720" y="1371600"/>
              <a:ext cx="304560" cy="15238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8280" y="2057400"/>
              <a:ext cx="83844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1280" y="2057400"/>
              <a:ext cx="83844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38280" y="990720"/>
              <a:ext cx="190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ahoma"/>
                </a:rPr>
                <a:t>Kuželočelní převodov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572000" y="990720"/>
            <a:ext cx="1981080" cy="1904760"/>
            <a:chOff x="4572000" y="990720"/>
            <a:chExt cx="1981080" cy="1904760"/>
          </a:xfrm>
        </p:grpSpPr>
        <p:sp>
          <p:nvSpPr>
            <p:cNvPr id="197" name=""/>
            <p:cNvSpPr/>
            <p:nvPr/>
          </p:nvSpPr>
          <p:spPr>
            <a:xfrm>
              <a:off x="5410080" y="1371600"/>
              <a:ext cx="304920" cy="15238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5000" y="2057400"/>
              <a:ext cx="83808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0" y="2057400"/>
              <a:ext cx="83808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76920" y="99072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Čelní převodov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705720" y="990720"/>
            <a:ext cx="1676160" cy="1904760"/>
            <a:chOff x="6705720" y="990720"/>
            <a:chExt cx="1676160" cy="1904760"/>
          </a:xfrm>
        </p:grpSpPr>
        <p:sp>
          <p:nvSpPr>
            <p:cNvPr id="202" name=""/>
            <p:cNvSpPr/>
            <p:nvPr/>
          </p:nvSpPr>
          <p:spPr>
            <a:xfrm>
              <a:off x="7543800" y="1371600"/>
              <a:ext cx="304920" cy="15238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05720" y="2057400"/>
              <a:ext cx="83808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10280" y="99072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Válcovací stol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762120" y="1371600"/>
            <a:ext cx="1752480" cy="1924200"/>
            <a:chOff x="762120" y="1371600"/>
            <a:chExt cx="1752480" cy="1924200"/>
          </a:xfrm>
        </p:grpSpPr>
        <p:sp>
          <p:nvSpPr>
            <p:cNvPr id="206" name=""/>
            <p:cNvSpPr/>
            <p:nvPr/>
          </p:nvSpPr>
          <p:spPr>
            <a:xfrm rot="16200000">
              <a:off x="1562040" y="1485360"/>
              <a:ext cx="533160" cy="45720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60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762120" y="2590920"/>
              <a:ext cx="850680" cy="704880"/>
              <a:chOff x="762120" y="2590920"/>
              <a:chExt cx="850680" cy="704880"/>
            </a:xfrm>
          </p:grpSpPr>
          <p:sp>
            <p:nvSpPr>
              <p:cNvPr id="209" name=""/>
              <p:cNvSpPr/>
              <p:nvPr/>
            </p:nvSpPr>
            <p:spPr>
              <a:xfrm>
                <a:off x="762120" y="259092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J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0" name=""/>
                  <p:cNvSpPr txBox="1"/>
                  <p:nvPr/>
                </p:nvSpPr>
                <p:spPr>
                  <a:xfrm>
                    <a:off x="990720" y="2971800"/>
                    <a:ext cx="622080" cy="324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11" name=""/>
          <p:cNvGrpSpPr/>
          <p:nvPr/>
        </p:nvGrpSpPr>
        <p:grpSpPr>
          <a:xfrm>
            <a:off x="2895480" y="2590920"/>
            <a:ext cx="862200" cy="704880"/>
            <a:chOff x="2895480" y="2590920"/>
            <a:chExt cx="862200" cy="704880"/>
          </a:xfrm>
        </p:grpSpPr>
        <p:sp>
          <p:nvSpPr>
            <p:cNvPr id="212" name=""/>
            <p:cNvSpPr/>
            <p:nvPr/>
          </p:nvSpPr>
          <p:spPr>
            <a:xfrm>
              <a:off x="2895480" y="25909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3124080" y="2971800"/>
                  <a:ext cx="63360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,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4" name=""/>
          <p:cNvGrpSpPr/>
          <p:nvPr/>
        </p:nvGrpSpPr>
        <p:grpSpPr>
          <a:xfrm>
            <a:off x="5029200" y="2590920"/>
            <a:ext cx="873000" cy="723960"/>
            <a:chOff x="5029200" y="2590920"/>
            <a:chExt cx="873000" cy="723960"/>
          </a:xfrm>
        </p:grpSpPr>
        <p:sp>
          <p:nvSpPr>
            <p:cNvPr id="215" name=""/>
            <p:cNvSpPr/>
            <p:nvPr/>
          </p:nvSpPr>
          <p:spPr>
            <a:xfrm>
              <a:off x="5029200" y="25909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5257800" y="2971800"/>
                  <a:ext cx="6444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,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7" name=""/>
          <p:cNvGrpSpPr/>
          <p:nvPr/>
        </p:nvGrpSpPr>
        <p:grpSpPr>
          <a:xfrm>
            <a:off x="6553080" y="1371600"/>
            <a:ext cx="1482840" cy="1943280"/>
            <a:chOff x="6553080" y="1371600"/>
            <a:chExt cx="1482840" cy="1943280"/>
          </a:xfrm>
        </p:grpSpPr>
        <p:sp>
          <p:nvSpPr>
            <p:cNvPr id="218" name=""/>
            <p:cNvSpPr/>
            <p:nvPr/>
          </p:nvSpPr>
          <p:spPr>
            <a:xfrm flipH="1" rot="5400000">
              <a:off x="6819840" y="1485360"/>
              <a:ext cx="533160" cy="45720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62920" y="25909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3080" y="137160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7391520" y="2971800"/>
                  <a:ext cx="6444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,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2" name=""/>
          <p:cNvGrpSpPr/>
          <p:nvPr/>
        </p:nvGrpSpPr>
        <p:grpSpPr>
          <a:xfrm>
            <a:off x="1676520" y="2209680"/>
            <a:ext cx="1600200" cy="336240"/>
            <a:chOff x="1676520" y="2209680"/>
            <a:chExt cx="1600200" cy="336240"/>
          </a:xfrm>
        </p:grpSpPr>
        <p:sp>
          <p:nvSpPr>
            <p:cNvPr id="223" name=""/>
            <p:cNvSpPr/>
            <p:nvPr/>
          </p:nvSpPr>
          <p:spPr>
            <a:xfrm>
              <a:off x="1676520" y="22096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43200" y="22096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2209680" y="2209680"/>
                  <a:ext cx="34920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6" name=""/>
          <p:cNvGrpSpPr/>
          <p:nvPr/>
        </p:nvGrpSpPr>
        <p:grpSpPr>
          <a:xfrm>
            <a:off x="3809880" y="2209680"/>
            <a:ext cx="1600200" cy="341280"/>
            <a:chOff x="3809880" y="2209680"/>
            <a:chExt cx="1600200" cy="341280"/>
          </a:xfrm>
        </p:grpSpPr>
        <p:sp>
          <p:nvSpPr>
            <p:cNvPr id="227" name=""/>
            <p:cNvSpPr/>
            <p:nvPr/>
          </p:nvSpPr>
          <p:spPr>
            <a:xfrm>
              <a:off x="3809880" y="22096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76920" y="22096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4343400" y="2209680"/>
                  <a:ext cx="3556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0" name=""/>
          <p:cNvGrpSpPr/>
          <p:nvPr/>
        </p:nvGrpSpPr>
        <p:grpSpPr>
          <a:xfrm>
            <a:off x="5943600" y="2209680"/>
            <a:ext cx="1523880" cy="341280"/>
            <a:chOff x="5943600" y="2209680"/>
            <a:chExt cx="1523880" cy="341280"/>
          </a:xfrm>
        </p:grpSpPr>
        <p:sp>
          <p:nvSpPr>
            <p:cNvPr id="231" name=""/>
            <p:cNvSpPr/>
            <p:nvPr/>
          </p:nvSpPr>
          <p:spPr>
            <a:xfrm>
              <a:off x="5943600" y="22096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34320" y="22096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6477120" y="2209680"/>
                  <a:ext cx="3553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3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4" name=""/>
          <p:cNvSpPr/>
          <p:nvPr/>
        </p:nvSpPr>
        <p:spPr>
          <a:xfrm>
            <a:off x="990720" y="2133720"/>
            <a:ext cx="7007040" cy="2880"/>
          </a:xfrm>
          <a:custGeom>
            <a:avLst/>
            <a:gdLst/>
            <a:ahLst/>
            <a:rect l="l" t="t" r="r" b="b"/>
            <a:pathLst>
              <a:path w="4414" h="2">
                <a:moveTo>
                  <a:pt x="0" y="0"/>
                </a:moveTo>
                <a:lnTo>
                  <a:pt x="4414" y="2"/>
                </a:lnTo>
              </a:path>
            </a:pathLst>
          </a:custGeom>
          <a:noFill/>
          <a:ln w="6480">
            <a:solidFill>
              <a:srgbClr val="0000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3581280"/>
            <a:ext cx="28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ýznam jednotlivých veličin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3886200"/>
            <a:ext cx="8077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J  …… momenty setrvačnosti přislušných mechanických subsystémů, redukovaných na výstup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hřídel motoru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49568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  …… konstanty tuhosti spojovacích prvků mezi jednotlivými mechanickými subsystém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48006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  …… konstanty tlumení spojovacích prvků mezi jednotlivými mechanickými subsystém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85800" y="5105520"/>
            <a:ext cx="7467120" cy="323280"/>
            <a:chOff x="685800" y="5105520"/>
            <a:chExt cx="7467120" cy="323280"/>
          </a:xfrm>
        </p:grpSpPr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685800" y="5181480"/>
                  <a:ext cx="218880" cy="24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ϕ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1" name=""/>
            <p:cNvSpPr/>
            <p:nvPr/>
          </p:nvSpPr>
          <p:spPr>
            <a:xfrm>
              <a:off x="838080" y="5105520"/>
              <a:ext cx="731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……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úhlová výchylka příslušného mechanického subsystému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85800" y="5410080"/>
            <a:ext cx="7467120" cy="307080"/>
            <a:chOff x="685800" y="5410080"/>
            <a:chExt cx="7467120" cy="307080"/>
          </a:xfrm>
        </p:grpSpPr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685800" y="5486400"/>
                  <a:ext cx="22356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838080" y="5410080"/>
              <a:ext cx="731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……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úhlová rychlost příslušného mechanického subsystému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85800" y="5715000"/>
            <a:ext cx="7467120" cy="320400"/>
            <a:chOff x="685800" y="5715000"/>
            <a:chExt cx="7467120" cy="320400"/>
          </a:xfrm>
        </p:grpSpPr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685800" y="5790960"/>
                  <a:ext cx="230040" cy="24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7" name=""/>
            <p:cNvSpPr/>
            <p:nvPr/>
          </p:nvSpPr>
          <p:spPr>
            <a:xfrm>
              <a:off x="838080" y="5715000"/>
              <a:ext cx="731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……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lativní úhlová výchylka mezi příslušnými mechanickými subsystémy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380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Model elektrického subsystému pohonu (minul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0" y="990720"/>
            <a:ext cx="1676160" cy="2743200"/>
            <a:chOff x="0" y="990720"/>
            <a:chExt cx="1676160" cy="2743200"/>
          </a:xfrm>
        </p:grpSpPr>
        <p:grpSp>
          <p:nvGrpSpPr>
            <p:cNvPr id="250" name=""/>
            <p:cNvGrpSpPr/>
            <p:nvPr/>
          </p:nvGrpSpPr>
          <p:grpSpPr>
            <a:xfrm>
              <a:off x="837720" y="990720"/>
              <a:ext cx="838440" cy="2743200"/>
              <a:chOff x="837720" y="990720"/>
              <a:chExt cx="838440" cy="274320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837720" y="3733920"/>
                <a:ext cx="8384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38080" y="992160"/>
                <a:ext cx="489240" cy="3240"/>
              </a:xfrm>
              <a:custGeom>
                <a:avLst/>
                <a:gdLst/>
                <a:ahLst/>
                <a:rect l="l" t="t" r="r" b="b"/>
                <a:pathLst>
                  <a:path w="308" h="2">
                    <a:moveTo>
                      <a:pt x="308" y="2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914400" y="990720"/>
                <a:ext cx="0" cy="274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0" y="1981440"/>
              <a:ext cx="914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ahoma"/>
                </a:rPr>
                <a:t>Otáčková regul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600200" y="4191120"/>
            <a:ext cx="1905120" cy="1752480"/>
            <a:chOff x="1600200" y="4191120"/>
            <a:chExt cx="1905120" cy="1752480"/>
          </a:xfrm>
        </p:grpSpPr>
        <p:grpSp>
          <p:nvGrpSpPr>
            <p:cNvPr id="256" name=""/>
            <p:cNvGrpSpPr/>
            <p:nvPr/>
          </p:nvGrpSpPr>
          <p:grpSpPr>
            <a:xfrm>
              <a:off x="1600200" y="4191120"/>
              <a:ext cx="1905120" cy="1752480"/>
              <a:chOff x="1600200" y="4191120"/>
              <a:chExt cx="1905120" cy="1752480"/>
            </a:xfrm>
          </p:grpSpPr>
          <p:sp>
            <p:nvSpPr>
              <p:cNvPr id="257" name=""/>
              <p:cNvSpPr/>
              <p:nvPr/>
            </p:nvSpPr>
            <p:spPr>
              <a:xfrm flipV="1">
                <a:off x="1600200" y="4191120"/>
                <a:ext cx="0" cy="175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3505320" y="4648320"/>
                <a:ext cx="0" cy="129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600200" y="5867640"/>
                <a:ext cx="19051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057400" y="5334120"/>
              <a:ext cx="99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oudová regul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505320" y="4648320"/>
            <a:ext cx="1676160" cy="1295280"/>
            <a:chOff x="3505320" y="4648320"/>
            <a:chExt cx="1676160" cy="1295280"/>
          </a:xfrm>
        </p:grpSpPr>
        <p:grpSp>
          <p:nvGrpSpPr>
            <p:cNvPr id="262" name=""/>
            <p:cNvGrpSpPr/>
            <p:nvPr/>
          </p:nvGrpSpPr>
          <p:grpSpPr>
            <a:xfrm>
              <a:off x="3505320" y="4648320"/>
              <a:ext cx="1676160" cy="1295280"/>
              <a:chOff x="3505320" y="4648320"/>
              <a:chExt cx="1676160" cy="1295280"/>
            </a:xfrm>
          </p:grpSpPr>
          <p:sp>
            <p:nvSpPr>
              <p:cNvPr id="263" name=""/>
              <p:cNvSpPr/>
              <p:nvPr/>
            </p:nvSpPr>
            <p:spPr>
              <a:xfrm flipV="1">
                <a:off x="5181480" y="4648320"/>
                <a:ext cx="0" cy="129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505320" y="5867640"/>
                <a:ext cx="16761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3733920" y="5334120"/>
              <a:ext cx="121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yristorový měni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4876920" y="2057400"/>
            <a:ext cx="3886200" cy="1371600"/>
            <a:chOff x="4876920" y="2057400"/>
            <a:chExt cx="3886200" cy="1371600"/>
          </a:xfrm>
        </p:grpSpPr>
        <p:grpSp>
          <p:nvGrpSpPr>
            <p:cNvPr id="267" name=""/>
            <p:cNvGrpSpPr/>
            <p:nvPr/>
          </p:nvGrpSpPr>
          <p:grpSpPr>
            <a:xfrm>
              <a:off x="4876920" y="2286000"/>
              <a:ext cx="3886200" cy="1143000"/>
              <a:chOff x="4876920" y="2286000"/>
              <a:chExt cx="3886200" cy="1143000"/>
            </a:xfrm>
          </p:grpSpPr>
          <p:sp>
            <p:nvSpPr>
              <p:cNvPr id="268" name=""/>
              <p:cNvSpPr/>
              <p:nvPr/>
            </p:nvSpPr>
            <p:spPr>
              <a:xfrm>
                <a:off x="4876920" y="2286000"/>
                <a:ext cx="0" cy="114300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763120" y="2286000"/>
                <a:ext cx="0" cy="114300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76920" y="2362320"/>
                <a:ext cx="38862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5410080" y="205740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cionárně buzený DC mo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143000" y="1219320"/>
            <a:ext cx="7848720" cy="4771080"/>
            <a:chOff x="1143000" y="1219320"/>
            <a:chExt cx="7848720" cy="4771080"/>
          </a:xfrm>
        </p:grpSpPr>
        <p:grpSp>
          <p:nvGrpSpPr>
            <p:cNvPr id="273" name=""/>
            <p:cNvGrpSpPr/>
            <p:nvPr/>
          </p:nvGrpSpPr>
          <p:grpSpPr>
            <a:xfrm>
              <a:off x="1293840" y="1219320"/>
              <a:ext cx="7507440" cy="4725720"/>
              <a:chOff x="1293840" y="1219320"/>
              <a:chExt cx="7507440" cy="472572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1293840" y="1219320"/>
                <a:ext cx="7507440" cy="4725720"/>
                <a:chOff x="1293840" y="1219320"/>
                <a:chExt cx="7507440" cy="472572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7467480" y="4039920"/>
                  <a:ext cx="304560" cy="304560"/>
                  <a:chOff x="7467480" y="4039920"/>
                  <a:chExt cx="304560" cy="30456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7467480" y="4040280"/>
                    <a:ext cx="304560" cy="304200"/>
                  </a:xfrm>
                  <a:prstGeom prst="flowChartProcess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V="1">
                    <a:off x="7467480" y="403992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7467480" y="404028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7314840" y="4954680"/>
                  <a:ext cx="609480" cy="609480"/>
                  <a:chOff x="7314840" y="4954680"/>
                  <a:chExt cx="609480" cy="60948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 rot="5400000">
                    <a:off x="7314840" y="4954680"/>
                    <a:ext cx="609480" cy="609480"/>
                  </a:xfrm>
                  <a:prstGeom prst="ellipse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rot="5400000">
                    <a:off x="7617600" y="5032440"/>
                    <a:ext cx="11160" cy="46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3">
                        <a:moveTo>
                          <a:pt x="0" y="293"/>
                        </a:moveTo>
                        <a:lnTo>
                          <a:pt x="7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0000"/>
                    </a:solidFill>
                    <a:round/>
                    <a:tailEnd len="lg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1600200" y="2820960"/>
                  <a:ext cx="761760" cy="761760"/>
                  <a:chOff x="1600200" y="2820960"/>
                  <a:chExt cx="761760" cy="76176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1600200" y="2820960"/>
                    <a:ext cx="761760" cy="76176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1684800" y="2905560"/>
                    <a:ext cx="59256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V="1">
                    <a:off x="1684800" y="2990520"/>
                    <a:ext cx="507960" cy="16920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"/>
                <p:cNvSpPr/>
                <p:nvPr/>
              </p:nvSpPr>
              <p:spPr>
                <a:xfrm rot="5400000">
                  <a:off x="1827000" y="1981080"/>
                  <a:ext cx="304920" cy="304560"/>
                </a:xfrm>
                <a:prstGeom prst="flowChartSummingJunction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1979640" y="1219320"/>
                  <a:ext cx="0" cy="7617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headEnd len="lg" type="triangle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5400000">
                  <a:off x="1103400" y="1409760"/>
                  <a:ext cx="914400" cy="533520"/>
                </a:xfrm>
                <a:custGeom>
                  <a:avLst/>
                  <a:gdLst/>
                  <a:ahLst/>
                  <a:rect l="l" t="t" r="r" b="b"/>
                  <a:pathLst>
                    <a:path w="576" h="336">
                      <a:moveTo>
                        <a:pt x="576" y="0"/>
                      </a:moveTo>
                      <a:lnTo>
                        <a:pt x="576" y="336"/>
                      </a:lnTo>
                      <a:lnTo>
                        <a:pt x="0" y="336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headEnd len="lg" type="triangle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979640" y="2286000"/>
                  <a:ext cx="0" cy="5335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rot="5400000">
                  <a:off x="1827000" y="4038480"/>
                  <a:ext cx="304920" cy="304560"/>
                </a:xfrm>
                <a:prstGeom prst="flowChartSummingJunction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979640" y="3581280"/>
                  <a:ext cx="0" cy="457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029200" y="4040280"/>
                  <a:ext cx="304920" cy="304560"/>
                </a:xfrm>
                <a:prstGeom prst="flowChartSummingJunction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3" name=""/>
                <p:cNvGrpSpPr/>
                <p:nvPr/>
              </p:nvGrpSpPr>
              <p:grpSpPr>
                <a:xfrm>
                  <a:off x="3809880" y="3811680"/>
                  <a:ext cx="1099800" cy="1183680"/>
                  <a:chOff x="3809880" y="3811680"/>
                  <a:chExt cx="1099800" cy="118368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flipH="1">
                    <a:off x="3894480" y="3980520"/>
                    <a:ext cx="1015200" cy="101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3809880" y="3811680"/>
                    <a:ext cx="761760" cy="76140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3894480" y="3895920"/>
                    <a:ext cx="59220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5791320" y="3811680"/>
                  <a:ext cx="1099080" cy="1183680"/>
                  <a:chOff x="5791320" y="3811680"/>
                  <a:chExt cx="1099080" cy="118368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flipH="1">
                    <a:off x="5875920" y="3980520"/>
                    <a:ext cx="1014480" cy="101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791320" y="3811680"/>
                    <a:ext cx="761400" cy="76140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5875920" y="3895920"/>
                    <a:ext cx="59184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2590920" y="3811680"/>
                  <a:ext cx="761400" cy="761400"/>
                  <a:chOff x="2590920" y="3811680"/>
                  <a:chExt cx="761400" cy="76140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2590920" y="3811680"/>
                    <a:ext cx="761400" cy="76140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2675520" y="3896280"/>
                    <a:ext cx="59256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V="1">
                    <a:off x="2675520" y="3980520"/>
                    <a:ext cx="507600" cy="16884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5" name=""/>
                <p:cNvSpPr/>
                <p:nvPr/>
              </p:nvSpPr>
              <p:spPr>
                <a:xfrm>
                  <a:off x="2133720" y="419256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352680" y="419256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572000" y="419256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334120" y="419256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9" name=""/>
                <p:cNvGrpSpPr/>
                <p:nvPr/>
              </p:nvGrpSpPr>
              <p:grpSpPr>
                <a:xfrm>
                  <a:off x="6858000" y="2896920"/>
                  <a:ext cx="304560" cy="304560"/>
                  <a:chOff x="6858000" y="2896920"/>
                  <a:chExt cx="304560" cy="30456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6858000" y="2897280"/>
                    <a:ext cx="304560" cy="304200"/>
                  </a:xfrm>
                  <a:prstGeom prst="flowChartProcess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V="1">
                    <a:off x="6858000" y="289692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858000" y="289728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3" name=""/>
                <p:cNvSpPr/>
                <p:nvPr/>
              </p:nvSpPr>
              <p:spPr>
                <a:xfrm>
                  <a:off x="6553080" y="4192560"/>
                  <a:ext cx="9144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181480" y="3049560"/>
                  <a:ext cx="1676520" cy="990720"/>
                </a:xfrm>
                <a:custGeom>
                  <a:avLst/>
                  <a:gdLst/>
                  <a:ahLst/>
                  <a:rect l="l" t="t" r="r" b="b"/>
                  <a:pathLst>
                    <a:path w="1056" h="624">
                      <a:moveTo>
                        <a:pt x="1056" y="0"/>
                      </a:moveTo>
                      <a:lnTo>
                        <a:pt x="0" y="0"/>
                      </a:lnTo>
                      <a:lnTo>
                        <a:pt x="0" y="62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8229600" y="4192560"/>
                  <a:ext cx="571680" cy="3240"/>
                </a:xfrm>
                <a:custGeom>
                  <a:avLst/>
                  <a:gdLst/>
                  <a:ahLst/>
                  <a:rect l="l" t="t" r="r" b="b"/>
                  <a:pathLst>
                    <a:path w="360" h="2">
                      <a:moveTo>
                        <a:pt x="0" y="0"/>
                      </a:moveTo>
                      <a:lnTo>
                        <a:pt x="360" y="2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981080" y="4192560"/>
                  <a:ext cx="4953240" cy="762120"/>
                </a:xfrm>
                <a:custGeom>
                  <a:avLst/>
                  <a:gdLst/>
                  <a:ahLst/>
                  <a:rect l="l" t="t" r="r" b="b"/>
                  <a:pathLst>
                    <a:path w="3120" h="480">
                      <a:moveTo>
                        <a:pt x="3120" y="0"/>
                      </a:moveTo>
                      <a:lnTo>
                        <a:pt x="3120" y="480"/>
                      </a:lnTo>
                      <a:lnTo>
                        <a:pt x="0" y="480"/>
                      </a:lnTo>
                      <a:lnTo>
                        <a:pt x="0" y="96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headEnd len="med" type="oval" w="med"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620120" y="4344840"/>
                  <a:ext cx="0" cy="609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162920" y="3049560"/>
                  <a:ext cx="1079280" cy="2209680"/>
                </a:xfrm>
                <a:custGeom>
                  <a:avLst/>
                  <a:gdLst/>
                  <a:ahLst/>
                  <a:rect l="l" t="t" r="r" b="b"/>
                  <a:pathLst>
                    <a:path w="680" h="1392">
                      <a:moveTo>
                        <a:pt x="480" y="1392"/>
                      </a:moveTo>
                      <a:lnTo>
                        <a:pt x="680" y="1387"/>
                      </a:lnTo>
                      <a:lnTo>
                        <a:pt x="67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781680" y="5259240"/>
                  <a:ext cx="533520" cy="609840"/>
                </a:xfrm>
                <a:custGeom>
                  <a:avLst/>
                  <a:gdLst/>
                  <a:ahLst/>
                  <a:rect l="l" t="t" r="r" b="b"/>
                  <a:pathLst>
                    <a:path w="336" h="384">
                      <a:moveTo>
                        <a:pt x="336" y="0"/>
                      </a:moveTo>
                      <a:lnTo>
                        <a:pt x="0" y="0"/>
                      </a:lnTo>
                      <a:lnTo>
                        <a:pt x="0" y="38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477120" y="5869080"/>
                  <a:ext cx="6094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629400" y="5945040"/>
                  <a:ext cx="30492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"/>
              <p:cNvSpPr/>
              <p:nvPr/>
            </p:nvSpPr>
            <p:spPr>
              <a:xfrm>
                <a:off x="2057400" y="19828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3880" y="175428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24280" y="419256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181480" y="373536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523880" y="38116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600200" y="42688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28" name=""/>
                <p:cNvSpPr txBox="1"/>
                <p:nvPr/>
              </p:nvSpPr>
              <p:spPr>
                <a:xfrm>
                  <a:off x="7391520" y="3735360"/>
                  <a:ext cx="42048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 </m:t>
                      </m:r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6781680" y="2592360"/>
                  <a:ext cx="42084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 </m:t>
                      </m:r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0" name=""/>
            <p:cNvSpPr/>
            <p:nvPr/>
          </p:nvSpPr>
          <p:spPr>
            <a:xfrm>
              <a:off x="1143000" y="28209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43000" y="32018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600200" y="46497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2680" y="381168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90920" y="35067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95480" y="350676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81080" y="3659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72000" y="381168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09880" y="35067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14800" y="350676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05720" y="381168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48720" y="5411880"/>
              <a:ext cx="4572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791320" y="35067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95880" y="350676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534520" y="381168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380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Model elektrického subsystému pohonu (součas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480" y="1066680"/>
            <a:ext cx="7848720" cy="4771080"/>
            <a:chOff x="609480" y="1066680"/>
            <a:chExt cx="7848720" cy="4771080"/>
          </a:xfrm>
        </p:grpSpPr>
        <p:grpSp>
          <p:nvGrpSpPr>
            <p:cNvPr id="347" name=""/>
            <p:cNvGrpSpPr/>
            <p:nvPr/>
          </p:nvGrpSpPr>
          <p:grpSpPr>
            <a:xfrm>
              <a:off x="760320" y="1066680"/>
              <a:ext cx="7507440" cy="4725720"/>
              <a:chOff x="760320" y="1066680"/>
              <a:chExt cx="7507440" cy="472572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760320" y="1066680"/>
                <a:ext cx="7507440" cy="4725720"/>
                <a:chOff x="760320" y="1066680"/>
                <a:chExt cx="7507440" cy="472572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6933960" y="3887280"/>
                  <a:ext cx="304560" cy="304560"/>
                  <a:chOff x="6933960" y="3887280"/>
                  <a:chExt cx="304560" cy="30456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6933960" y="3887640"/>
                    <a:ext cx="304560" cy="304200"/>
                  </a:xfrm>
                  <a:prstGeom prst="flowChartProcess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V="1">
                    <a:off x="6933960" y="388728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933960" y="388764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6781320" y="4802040"/>
                  <a:ext cx="609480" cy="609480"/>
                  <a:chOff x="6781320" y="4802040"/>
                  <a:chExt cx="609480" cy="6094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rot="5400000">
                    <a:off x="6781320" y="4802040"/>
                    <a:ext cx="609480" cy="609480"/>
                  </a:xfrm>
                  <a:prstGeom prst="ellipse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rot="5400000">
                    <a:off x="7084080" y="4879800"/>
                    <a:ext cx="11160" cy="46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3">
                        <a:moveTo>
                          <a:pt x="0" y="293"/>
                        </a:moveTo>
                        <a:lnTo>
                          <a:pt x="7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0000"/>
                    </a:solidFill>
                    <a:round/>
                    <a:tailEnd len="lg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1066680" y="2668320"/>
                  <a:ext cx="761760" cy="761760"/>
                  <a:chOff x="1066680" y="2668320"/>
                  <a:chExt cx="761760" cy="76176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1066680" y="2668320"/>
                    <a:ext cx="761760" cy="76176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1151280" y="2752920"/>
                    <a:ext cx="59256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V="1">
                    <a:off x="1151280" y="2837880"/>
                    <a:ext cx="507960" cy="16920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0" name=""/>
                <p:cNvSpPr/>
                <p:nvPr/>
              </p:nvSpPr>
              <p:spPr>
                <a:xfrm rot="5400000">
                  <a:off x="1293480" y="1828440"/>
                  <a:ext cx="304920" cy="304560"/>
                </a:xfrm>
                <a:prstGeom prst="flowChartSummingJunction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V="1">
                  <a:off x="1446120" y="1066680"/>
                  <a:ext cx="0" cy="7617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headEnd len="lg" type="triangle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rot="5400000">
                  <a:off x="569520" y="1257120"/>
                  <a:ext cx="914400" cy="533520"/>
                </a:xfrm>
                <a:custGeom>
                  <a:avLst/>
                  <a:gdLst/>
                  <a:ahLst/>
                  <a:rect l="l" t="t" r="r" b="b"/>
                  <a:pathLst>
                    <a:path w="576" h="336">
                      <a:moveTo>
                        <a:pt x="576" y="0"/>
                      </a:moveTo>
                      <a:lnTo>
                        <a:pt x="576" y="336"/>
                      </a:lnTo>
                      <a:lnTo>
                        <a:pt x="0" y="336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headEnd len="lg" type="triangle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446120" y="2133360"/>
                  <a:ext cx="0" cy="5335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rot="5400000">
                  <a:off x="1293480" y="3885840"/>
                  <a:ext cx="304920" cy="304560"/>
                </a:xfrm>
                <a:prstGeom prst="flowChartSummingJunction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446120" y="3428640"/>
                  <a:ext cx="0" cy="457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495680" y="3887640"/>
                  <a:ext cx="304920" cy="304560"/>
                </a:xfrm>
                <a:prstGeom prst="flowChartSummingJunction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7" name=""/>
                <p:cNvGrpSpPr/>
                <p:nvPr/>
              </p:nvGrpSpPr>
              <p:grpSpPr>
                <a:xfrm>
                  <a:off x="3276360" y="3659040"/>
                  <a:ext cx="1099800" cy="1183680"/>
                  <a:chOff x="3276360" y="3659040"/>
                  <a:chExt cx="1099800" cy="118368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>
                    <a:off x="3360960" y="3827880"/>
                    <a:ext cx="1015200" cy="101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3276360" y="3659040"/>
                    <a:ext cx="761760" cy="76140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3360960" y="3743280"/>
                    <a:ext cx="59220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5257800" y="3659040"/>
                  <a:ext cx="1099080" cy="1183680"/>
                  <a:chOff x="5257800" y="3659040"/>
                  <a:chExt cx="1099080" cy="118368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H="1">
                    <a:off x="5342400" y="3827880"/>
                    <a:ext cx="1014480" cy="101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5257800" y="3659040"/>
                    <a:ext cx="761400" cy="76140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5342400" y="3743280"/>
                    <a:ext cx="59184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2057400" y="3659040"/>
                  <a:ext cx="761400" cy="761400"/>
                  <a:chOff x="2057400" y="3659040"/>
                  <a:chExt cx="761400" cy="76140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>
                    <a:off x="2057400" y="3659040"/>
                    <a:ext cx="761400" cy="76140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2142000" y="3743640"/>
                    <a:ext cx="59256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flipV="1">
                    <a:off x="2142000" y="3827880"/>
                    <a:ext cx="507600" cy="16884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9" name=""/>
                <p:cNvSpPr/>
                <p:nvPr/>
              </p:nvSpPr>
              <p:spPr>
                <a:xfrm>
                  <a:off x="1600200" y="403992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819160" y="403992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038480" y="403992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800600" y="403992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3" name=""/>
                <p:cNvGrpSpPr/>
                <p:nvPr/>
              </p:nvGrpSpPr>
              <p:grpSpPr>
                <a:xfrm>
                  <a:off x="6324480" y="2744280"/>
                  <a:ext cx="304560" cy="304560"/>
                  <a:chOff x="6324480" y="2744280"/>
                  <a:chExt cx="304560" cy="30456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6324480" y="2744640"/>
                    <a:ext cx="304560" cy="304200"/>
                  </a:xfrm>
                  <a:prstGeom prst="flowChartProcess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V="1">
                    <a:off x="6324480" y="274428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6324480" y="274464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>
                  <a:off x="6019560" y="4039920"/>
                  <a:ext cx="9144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647960" y="2896920"/>
                  <a:ext cx="1676520" cy="990720"/>
                </a:xfrm>
                <a:custGeom>
                  <a:avLst/>
                  <a:gdLst/>
                  <a:ahLst/>
                  <a:rect l="l" t="t" r="r" b="b"/>
                  <a:pathLst>
                    <a:path w="1056" h="624">
                      <a:moveTo>
                        <a:pt x="1056" y="0"/>
                      </a:moveTo>
                      <a:lnTo>
                        <a:pt x="0" y="0"/>
                      </a:lnTo>
                      <a:lnTo>
                        <a:pt x="0" y="62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696080" y="4039920"/>
                  <a:ext cx="571680" cy="3240"/>
                </a:xfrm>
                <a:custGeom>
                  <a:avLst/>
                  <a:gdLst/>
                  <a:ahLst/>
                  <a:rect l="l" t="t" r="r" b="b"/>
                  <a:pathLst>
                    <a:path w="360" h="2">
                      <a:moveTo>
                        <a:pt x="0" y="0"/>
                      </a:moveTo>
                      <a:lnTo>
                        <a:pt x="360" y="2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447560" y="4039920"/>
                  <a:ext cx="4953240" cy="762120"/>
                </a:xfrm>
                <a:custGeom>
                  <a:avLst/>
                  <a:gdLst/>
                  <a:ahLst/>
                  <a:rect l="l" t="t" r="r" b="b"/>
                  <a:pathLst>
                    <a:path w="3120" h="480">
                      <a:moveTo>
                        <a:pt x="3120" y="0"/>
                      </a:moveTo>
                      <a:lnTo>
                        <a:pt x="3120" y="480"/>
                      </a:lnTo>
                      <a:lnTo>
                        <a:pt x="0" y="480"/>
                      </a:lnTo>
                      <a:lnTo>
                        <a:pt x="0" y="96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headEnd len="med" type="oval" w="med"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086600" y="4192200"/>
                  <a:ext cx="0" cy="609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629400" y="2896920"/>
                  <a:ext cx="1079280" cy="2209680"/>
                </a:xfrm>
                <a:custGeom>
                  <a:avLst/>
                  <a:gdLst/>
                  <a:ahLst/>
                  <a:rect l="l" t="t" r="r" b="b"/>
                  <a:pathLst>
                    <a:path w="680" h="1392">
                      <a:moveTo>
                        <a:pt x="480" y="1392"/>
                      </a:moveTo>
                      <a:lnTo>
                        <a:pt x="680" y="1387"/>
                      </a:lnTo>
                      <a:lnTo>
                        <a:pt x="67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248160" y="5106600"/>
                  <a:ext cx="533520" cy="609840"/>
                </a:xfrm>
                <a:custGeom>
                  <a:avLst/>
                  <a:gdLst/>
                  <a:ahLst/>
                  <a:rect l="l" t="t" r="r" b="b"/>
                  <a:pathLst>
                    <a:path w="336" h="384">
                      <a:moveTo>
                        <a:pt x="336" y="0"/>
                      </a:moveTo>
                      <a:lnTo>
                        <a:pt x="0" y="0"/>
                      </a:lnTo>
                      <a:lnTo>
                        <a:pt x="0" y="38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943600" y="5716440"/>
                  <a:ext cx="6094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095880" y="5792400"/>
                  <a:ext cx="30492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"/>
              <p:cNvSpPr/>
              <p:nvPr/>
            </p:nvSpPr>
            <p:spPr>
              <a:xfrm>
                <a:off x="1523880" y="18302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990360" y="160164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90760" y="403992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647960" y="358272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990360" y="36590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066680" y="411624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6858000" y="3582720"/>
                  <a:ext cx="42048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 </m:t>
                      </m:r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6248160" y="2439720"/>
                  <a:ext cx="42084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 </m:t>
                      </m:r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4" name=""/>
            <p:cNvSpPr/>
            <p:nvPr/>
          </p:nvSpPr>
          <p:spPr>
            <a:xfrm>
              <a:off x="609480" y="266832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9480" y="304920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66680" y="449712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819160" y="3659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7400" y="335412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61960" y="33541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47560" y="350640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38480" y="3659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76360" y="335412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81280" y="33541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172200" y="3659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15200" y="5259240"/>
              <a:ext cx="4572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57800" y="335412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62360" y="33541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01000" y="3659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4724280" y="1295280"/>
            <a:ext cx="4191120" cy="4724640"/>
            <a:chOff x="4724280" y="1295280"/>
            <a:chExt cx="4191120" cy="4724640"/>
          </a:xfrm>
        </p:grpSpPr>
        <p:sp>
          <p:nvSpPr>
            <p:cNvPr id="420" name=""/>
            <p:cNvSpPr/>
            <p:nvPr/>
          </p:nvSpPr>
          <p:spPr>
            <a:xfrm>
              <a:off x="4952880" y="2057400"/>
              <a:ext cx="3810240" cy="39625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24280" y="1295280"/>
              <a:ext cx="4191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Změna stacionárně buzeného DC motoru za nestacionárně buzený DC motor s uvažováním změny magnetického toku cívky budícího vinut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304920" y="1143000"/>
            <a:ext cx="8226360" cy="4930920"/>
            <a:chOff x="304920" y="1143000"/>
            <a:chExt cx="8226360" cy="4930920"/>
          </a:xfrm>
        </p:grpSpPr>
        <p:grpSp>
          <p:nvGrpSpPr>
            <p:cNvPr id="423" name=""/>
            <p:cNvGrpSpPr/>
            <p:nvPr/>
          </p:nvGrpSpPr>
          <p:grpSpPr>
            <a:xfrm>
              <a:off x="2057400" y="1143000"/>
              <a:ext cx="4876920" cy="1718280"/>
              <a:chOff x="2057400" y="1143000"/>
              <a:chExt cx="4876920" cy="171828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2819520" y="1676520"/>
                <a:ext cx="1099080" cy="1184760"/>
                <a:chOff x="2819520" y="1676520"/>
                <a:chExt cx="1099080" cy="1184760"/>
              </a:xfrm>
            </p:grpSpPr>
            <p:sp>
              <p:nvSpPr>
                <p:cNvPr id="425" name=""/>
                <p:cNvSpPr/>
                <p:nvPr/>
              </p:nvSpPr>
              <p:spPr>
                <a:xfrm flipH="1">
                  <a:off x="2904120" y="1845720"/>
                  <a:ext cx="1014480" cy="101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1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819520" y="1676520"/>
                  <a:ext cx="761400" cy="76176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904120" y="1760760"/>
                  <a:ext cx="591840" cy="592560"/>
                </a:xfrm>
                <a:custGeom>
                  <a:avLst/>
                  <a:gdLst/>
                  <a:ahLst/>
                  <a:rect l="l" t="t" r="r" b="b"/>
                  <a:pathLst>
                    <a:path w="336" h="336">
                      <a:moveTo>
                        <a:pt x="0" y="0"/>
                      </a:moveTo>
                      <a:lnTo>
                        <a:pt x="0" y="336"/>
                      </a:lnTo>
                      <a:lnTo>
                        <a:pt x="336" y="336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4343400" y="1676520"/>
                <a:ext cx="1099800" cy="1184760"/>
                <a:chOff x="4343400" y="1676520"/>
                <a:chExt cx="1099800" cy="1184760"/>
              </a:xfrm>
            </p:grpSpPr>
            <p:sp>
              <p:nvSpPr>
                <p:cNvPr id="429" name=""/>
                <p:cNvSpPr/>
                <p:nvPr/>
              </p:nvSpPr>
              <p:spPr>
                <a:xfrm flipH="1">
                  <a:off x="4428000" y="1845720"/>
                  <a:ext cx="1015200" cy="101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1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343400" y="1676520"/>
                  <a:ext cx="761760" cy="76176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428000" y="1760760"/>
                  <a:ext cx="592200" cy="592560"/>
                </a:xfrm>
                <a:custGeom>
                  <a:avLst/>
                  <a:gdLst/>
                  <a:ahLst/>
                  <a:rect l="l" t="t" r="r" b="b"/>
                  <a:pathLst>
                    <a:path w="336" h="336">
                      <a:moveTo>
                        <a:pt x="0" y="0"/>
                      </a:moveTo>
                      <a:lnTo>
                        <a:pt x="0" y="336"/>
                      </a:lnTo>
                      <a:lnTo>
                        <a:pt x="336" y="336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"/>
              <p:cNvSpPr/>
              <p:nvPr/>
            </p:nvSpPr>
            <p:spPr>
              <a:xfrm>
                <a:off x="2057400" y="167652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495680" y="13716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657600" y="167652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895480" y="13716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6" name=""/>
              <p:cNvGrpSpPr/>
              <p:nvPr/>
            </p:nvGrpSpPr>
            <p:grpSpPr>
              <a:xfrm>
                <a:off x="5638680" y="1676520"/>
                <a:ext cx="1218600" cy="762120"/>
                <a:chOff x="5638680" y="1676520"/>
                <a:chExt cx="1218600" cy="7621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5867280" y="1676520"/>
                  <a:ext cx="761760" cy="76212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248160" y="1752840"/>
                  <a:ext cx="0" cy="609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943240" y="2057400"/>
                  <a:ext cx="6098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V="1">
                  <a:off x="5638680" y="1751760"/>
                  <a:ext cx="609120" cy="609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1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flipH="1">
                  <a:off x="6248160" y="1752840"/>
                  <a:ext cx="609120" cy="608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1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2" name=""/>
              <p:cNvSpPr/>
              <p:nvPr/>
            </p:nvSpPr>
            <p:spPr>
              <a:xfrm>
                <a:off x="2057400" y="2057400"/>
                <a:ext cx="7621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105520" y="2057400"/>
                <a:ext cx="7617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81280" y="2057400"/>
                <a:ext cx="7621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181480" y="167652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486400" y="1143000"/>
                <a:ext cx="1447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magnetizační charakteristik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304920" y="1752840"/>
              <a:ext cx="8226360" cy="4321080"/>
              <a:chOff x="304920" y="1752840"/>
              <a:chExt cx="8226360" cy="432108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3200400" y="5181480"/>
                <a:ext cx="304560" cy="304560"/>
                <a:chOff x="3200400" y="5181480"/>
                <a:chExt cx="304560" cy="30456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3200400" y="5181840"/>
                  <a:ext cx="304560" cy="304200"/>
                </a:xfrm>
                <a:prstGeom prst="flowChartProcess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V="1">
                  <a:off x="3200400" y="5181480"/>
                  <a:ext cx="304560" cy="30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200400" y="5181840"/>
                  <a:ext cx="304560" cy="30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 rot="5400000">
                <a:off x="1066320" y="3657600"/>
                <a:ext cx="304920" cy="304920"/>
              </a:xfrm>
              <a:prstGeom prst="flowChartSummingJunction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181480" y="3657600"/>
                <a:ext cx="304920" cy="304920"/>
              </a:xfrm>
              <a:prstGeom prst="flowChartSummingJunction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3200400" y="3657600"/>
                <a:ext cx="304560" cy="304560"/>
                <a:chOff x="3200400" y="3657600"/>
                <a:chExt cx="304560" cy="30456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3200400" y="3657600"/>
                  <a:ext cx="304560" cy="304560"/>
                </a:xfrm>
                <a:prstGeom prst="flowChartProcess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V="1">
                  <a:off x="3200400" y="3657600"/>
                  <a:ext cx="304560" cy="30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00400" y="3657600"/>
                  <a:ext cx="304560" cy="30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3657600" y="3505320"/>
                <a:ext cx="990720" cy="1447920"/>
                <a:chOff x="3657600" y="3505320"/>
                <a:chExt cx="990720" cy="1447920"/>
              </a:xfrm>
            </p:grpSpPr>
            <p:grpSp>
              <p:nvGrpSpPr>
                <p:cNvPr id="459" name=""/>
                <p:cNvGrpSpPr/>
                <p:nvPr/>
              </p:nvGrpSpPr>
              <p:grpSpPr>
                <a:xfrm>
                  <a:off x="4038840" y="3505320"/>
                  <a:ext cx="609480" cy="609480"/>
                  <a:chOff x="4038840" y="3505320"/>
                  <a:chExt cx="609480" cy="60948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 flipH="1">
                    <a:off x="4038480" y="3505320"/>
                    <a:ext cx="609480" cy="609480"/>
                  </a:xfrm>
                  <a:prstGeom prst="ellipse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H="1">
                    <a:off x="4331880" y="3573720"/>
                    <a:ext cx="11160" cy="46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3">
                        <a:moveTo>
                          <a:pt x="0" y="293"/>
                        </a:moveTo>
                        <a:lnTo>
                          <a:pt x="7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0000"/>
                    </a:solidFill>
                    <a:round/>
                    <a:tailEnd len="lg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"/>
                <p:cNvSpPr/>
                <p:nvPr/>
              </p:nvSpPr>
              <p:spPr>
                <a:xfrm flipH="1" rot="5400000">
                  <a:off x="3771720" y="4077000"/>
                  <a:ext cx="533160" cy="609480"/>
                </a:xfrm>
                <a:custGeom>
                  <a:avLst/>
                  <a:gdLst/>
                  <a:ahLst/>
                  <a:rect l="l" t="t" r="r" b="b"/>
                  <a:pathLst>
                    <a:path w="336" h="384">
                      <a:moveTo>
                        <a:pt x="336" y="0"/>
                      </a:moveTo>
                      <a:lnTo>
                        <a:pt x="0" y="0"/>
                      </a:lnTo>
                      <a:lnTo>
                        <a:pt x="0" y="38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V="1">
                  <a:off x="3733920" y="4343760"/>
                  <a:ext cx="0" cy="609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V="1">
                  <a:off x="3657600" y="4496040"/>
                  <a:ext cx="0" cy="3049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4876920" y="342900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334120" y="381024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62120" y="342900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19320" y="381024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172200" y="31244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238880" y="34290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04920" y="342900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62120" y="434340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666880" y="342900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72000" y="3429000"/>
                <a:ext cx="457200" cy="5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5" name=""/>
              <p:cNvGrpSpPr/>
              <p:nvPr/>
            </p:nvGrpSpPr>
            <p:grpSpPr>
              <a:xfrm>
                <a:off x="1905120" y="3124440"/>
                <a:ext cx="837720" cy="336240"/>
                <a:chOff x="1905120" y="3124440"/>
                <a:chExt cx="837720" cy="33624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1905120" y="3124440"/>
                  <a:ext cx="45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K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ahoma"/>
                    </a:rPr>
                    <a:t>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209680" y="3124440"/>
                  <a:ext cx="5331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T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ahoma"/>
                    </a:rPr>
                    <a:t>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" name=""/>
              <p:cNvSpPr/>
              <p:nvPr/>
            </p:nvSpPr>
            <p:spPr>
              <a:xfrm>
                <a:off x="5334120" y="449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1905120" y="3429000"/>
                <a:ext cx="1099080" cy="1184760"/>
                <a:chOff x="1905120" y="3429000"/>
                <a:chExt cx="1099080" cy="1184760"/>
              </a:xfrm>
            </p:grpSpPr>
            <p:sp>
              <p:nvSpPr>
                <p:cNvPr id="480" name=""/>
                <p:cNvSpPr/>
                <p:nvPr/>
              </p:nvSpPr>
              <p:spPr>
                <a:xfrm flipH="1">
                  <a:off x="1989720" y="3598200"/>
                  <a:ext cx="1014480" cy="101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1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905120" y="3429000"/>
                  <a:ext cx="761400" cy="76176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989720" y="3513240"/>
                  <a:ext cx="591840" cy="592560"/>
                </a:xfrm>
                <a:custGeom>
                  <a:avLst/>
                  <a:gdLst/>
                  <a:ahLst/>
                  <a:rect l="l" t="t" r="r" b="b"/>
                  <a:pathLst>
                    <a:path w="336" h="336">
                      <a:moveTo>
                        <a:pt x="0" y="0"/>
                      </a:moveTo>
                      <a:lnTo>
                        <a:pt x="0" y="336"/>
                      </a:lnTo>
                      <a:lnTo>
                        <a:pt x="336" y="336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6019920" y="3429000"/>
                <a:ext cx="761760" cy="762120"/>
                <a:chOff x="6019920" y="3429000"/>
                <a:chExt cx="761760" cy="76212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6019920" y="3429000"/>
                  <a:ext cx="761760" cy="76212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095880" y="3505320"/>
                  <a:ext cx="593280" cy="593640"/>
                </a:xfrm>
                <a:custGeom>
                  <a:avLst/>
                  <a:gdLst/>
                  <a:ahLst/>
                  <a:rect l="l" t="t" r="r" b="b"/>
                  <a:pathLst>
                    <a:path w="336" h="336">
                      <a:moveTo>
                        <a:pt x="0" y="0"/>
                      </a:moveTo>
                      <a:lnTo>
                        <a:pt x="0" y="336"/>
                      </a:lnTo>
                      <a:lnTo>
                        <a:pt x="336" y="336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117840" y="3581640"/>
                  <a:ext cx="510840" cy="515880"/>
                </a:xfrm>
                <a:custGeom>
                  <a:avLst/>
                  <a:gdLst/>
                  <a:ahLst/>
                  <a:rect l="l" t="t" r="r" b="b"/>
                  <a:pathLst>
                    <a:path w="322" h="325">
                      <a:moveTo>
                        <a:pt x="0" y="325"/>
                      </a:moveTo>
                      <a:lnTo>
                        <a:pt x="322" y="0"/>
                      </a:lnTo>
                    </a:path>
                  </a:pathLst>
                </a:custGeom>
                <a:noFill/>
                <a:ln w="31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7" name=""/>
              <p:cNvSpPr/>
              <p:nvPr/>
            </p:nvSpPr>
            <p:spPr>
              <a:xfrm>
                <a:off x="2666880" y="3810240"/>
                <a:ext cx="5335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505320" y="3810240"/>
                <a:ext cx="5331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648320" y="3810240"/>
                <a:ext cx="5331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86400" y="3810240"/>
                <a:ext cx="5335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71600" y="3810240"/>
                <a:ext cx="5335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781680" y="3810240"/>
                <a:ext cx="12193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93" name=""/>
                  <p:cNvSpPr txBox="1"/>
                  <p:nvPr/>
                </p:nvSpPr>
                <p:spPr>
                  <a:xfrm>
                    <a:off x="6858000" y="1752840"/>
                    <a:ext cx="420840" cy="304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Φ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94" name=""/>
              <p:cNvSpPr/>
              <p:nvPr/>
            </p:nvSpPr>
            <p:spPr>
              <a:xfrm>
                <a:off x="304920" y="3810240"/>
                <a:ext cx="7617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506760" y="3810240"/>
                <a:ext cx="3667320" cy="1544400"/>
              </a:xfrm>
              <a:custGeom>
                <a:avLst/>
                <a:gdLst/>
                <a:ahLst/>
                <a:rect l="l" t="t" r="r" b="b"/>
                <a:pathLst>
                  <a:path w="2310" h="973">
                    <a:moveTo>
                      <a:pt x="2303" y="0"/>
                    </a:moveTo>
                    <a:lnTo>
                      <a:pt x="2310" y="973"/>
                    </a:lnTo>
                    <a:lnTo>
                      <a:pt x="0" y="973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208160" y="3962520"/>
                <a:ext cx="1987560" cy="1382760"/>
              </a:xfrm>
              <a:custGeom>
                <a:avLst/>
                <a:gdLst/>
                <a:ahLst/>
                <a:rect l="l" t="t" r="r" b="b"/>
                <a:pathLst>
                  <a:path w="1252" h="871">
                    <a:moveTo>
                      <a:pt x="1252" y="871"/>
                    </a:moveTo>
                    <a:lnTo>
                      <a:pt x="0" y="865"/>
                    </a:lnTo>
                    <a:lnTo>
                      <a:pt x="7" y="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346560" y="2078280"/>
                <a:ext cx="5184720" cy="3995640"/>
              </a:xfrm>
              <a:custGeom>
                <a:avLst/>
                <a:gdLst/>
                <a:ahLst/>
                <a:rect l="l" t="t" r="r" b="b"/>
                <a:pathLst>
                  <a:path w="3266" h="2517">
                    <a:moveTo>
                      <a:pt x="2075" y="0"/>
                    </a:moveTo>
                    <a:lnTo>
                      <a:pt x="3266" y="0"/>
                    </a:lnTo>
                    <a:lnTo>
                      <a:pt x="3261" y="2517"/>
                    </a:lnTo>
                    <a:lnTo>
                      <a:pt x="0" y="2517"/>
                    </a:lnTo>
                    <a:lnTo>
                      <a:pt x="6" y="2153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352680" y="2992680"/>
                <a:ext cx="5170680" cy="664920"/>
              </a:xfrm>
              <a:custGeom>
                <a:avLst/>
                <a:gdLst/>
                <a:ahLst/>
                <a:rect l="l" t="t" r="r" b="b"/>
                <a:pathLst>
                  <a:path w="3257" h="419">
                    <a:moveTo>
                      <a:pt x="3257" y="0"/>
                    </a:moveTo>
                    <a:lnTo>
                      <a:pt x="2" y="0"/>
                    </a:lnTo>
                    <a:lnTo>
                      <a:pt x="0" y="41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334120" y="3962520"/>
                <a:ext cx="0" cy="990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0" name=""/>
          <p:cNvSpPr/>
          <p:nvPr/>
        </p:nvSpPr>
        <p:spPr>
          <a:xfrm>
            <a:off x="0" y="380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lokové schéma DC motoru s cizím buzením (součas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828800" y="1066680"/>
            <a:ext cx="5562720" cy="1676520"/>
          </a:xfrm>
          <a:prstGeom prst="rect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4920" y="1523880"/>
            <a:ext cx="144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Obvod cívky cizího budícího vinut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380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lokové schéma pracovního str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219320" y="685800"/>
            <a:ext cx="7086600" cy="3128760"/>
            <a:chOff x="1219320" y="685800"/>
            <a:chExt cx="7086600" cy="3128760"/>
          </a:xfrm>
        </p:grpSpPr>
        <p:grpSp>
          <p:nvGrpSpPr>
            <p:cNvPr id="505" name=""/>
            <p:cNvGrpSpPr/>
            <p:nvPr/>
          </p:nvGrpSpPr>
          <p:grpSpPr>
            <a:xfrm>
              <a:off x="3549240" y="2438280"/>
              <a:ext cx="1099080" cy="1184760"/>
              <a:chOff x="3549240" y="2438280"/>
              <a:chExt cx="1099080" cy="1184760"/>
            </a:xfrm>
          </p:grpSpPr>
          <p:sp>
            <p:nvSpPr>
              <p:cNvPr id="506" name=""/>
              <p:cNvSpPr/>
              <p:nvPr/>
            </p:nvSpPr>
            <p:spPr>
              <a:xfrm>
                <a:off x="3549240" y="2607480"/>
                <a:ext cx="1014480" cy="101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3886560" y="2438280"/>
                <a:ext cx="761400" cy="76176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3971880" y="2522520"/>
                <a:ext cx="591840" cy="592560"/>
              </a:xfrm>
              <a:custGeom>
                <a:avLst/>
                <a:gdLst/>
                <a:ahLst/>
                <a:rect l="l" t="t" r="r" b="b"/>
                <a:pathLst>
                  <a:path w="336" h="336">
                    <a:moveTo>
                      <a:pt x="0" y="0"/>
                    </a:moveTo>
                    <a:lnTo>
                      <a:pt x="0" y="336"/>
                    </a:lnTo>
                    <a:lnTo>
                      <a:pt x="336" y="33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3048120" y="1904760"/>
              <a:ext cx="2438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omentová charakteristika pracovního stro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5400000">
              <a:off x="2819160" y="2666880"/>
              <a:ext cx="304920" cy="304920"/>
            </a:xfrm>
            <a:prstGeom prst="flowChartSummingJunction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133720" y="1218960"/>
              <a:ext cx="304920" cy="304920"/>
            </a:xfrm>
            <a:prstGeom prst="flowChartSummingJunction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829160" y="1066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86360" y="13716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2160" y="24382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590920" y="297180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38840" y="68580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15360" y="9903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19320" y="990360"/>
              <a:ext cx="4572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829160" y="198108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3886560" y="990360"/>
              <a:ext cx="761760" cy="762120"/>
              <a:chOff x="3886560" y="990360"/>
              <a:chExt cx="761760" cy="762120"/>
            </a:xfrm>
          </p:grpSpPr>
          <p:sp>
            <p:nvSpPr>
              <p:cNvPr id="521" name=""/>
              <p:cNvSpPr/>
              <p:nvPr/>
            </p:nvSpPr>
            <p:spPr>
              <a:xfrm>
                <a:off x="3886560" y="990360"/>
                <a:ext cx="761760" cy="762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962520" y="1066680"/>
                <a:ext cx="593280" cy="593640"/>
              </a:xfrm>
              <a:custGeom>
                <a:avLst/>
                <a:gdLst/>
                <a:ahLst/>
                <a:rect l="l" t="t" r="r" b="b"/>
                <a:pathLst>
                  <a:path w="336" h="336">
                    <a:moveTo>
                      <a:pt x="0" y="0"/>
                    </a:moveTo>
                    <a:lnTo>
                      <a:pt x="0" y="336"/>
                    </a:lnTo>
                    <a:lnTo>
                      <a:pt x="336" y="33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984480" y="1143000"/>
                <a:ext cx="510840" cy="515880"/>
              </a:xfrm>
              <a:custGeom>
                <a:avLst/>
                <a:gdLst/>
                <a:ahLst/>
                <a:rect l="l" t="t" r="r" b="b"/>
                <a:pathLst>
                  <a:path w="322" h="325">
                    <a:moveTo>
                      <a:pt x="0" y="325"/>
                    </a:moveTo>
                    <a:lnTo>
                      <a:pt x="322" y="0"/>
                    </a:lnTo>
                  </a:path>
                </a:pathLst>
              </a:custGeom>
              <a:noFill/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1371960" y="1371600"/>
              <a:ext cx="7617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3124080" y="2819160"/>
              <a:ext cx="7621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48320" y="1371600"/>
              <a:ext cx="2819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438640" y="1371600"/>
              <a:ext cx="1447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86360" y="1523880"/>
              <a:ext cx="533160" cy="1295280"/>
            </a:xfrm>
            <a:custGeom>
              <a:avLst/>
              <a:gdLst/>
              <a:ahLst/>
              <a:rect l="l" t="t" r="r" b="b"/>
              <a:pathLst>
                <a:path w="336" h="816">
                  <a:moveTo>
                    <a:pt x="336" y="816"/>
                  </a:moveTo>
                  <a:lnTo>
                    <a:pt x="0" y="816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648320" y="1371600"/>
              <a:ext cx="1295640" cy="1447560"/>
            </a:xfrm>
            <a:custGeom>
              <a:avLst/>
              <a:gdLst/>
              <a:ahLst/>
              <a:rect l="l" t="t" r="r" b="b"/>
              <a:pathLst>
                <a:path w="816" h="912">
                  <a:moveTo>
                    <a:pt x="0" y="912"/>
                  </a:moveTo>
                  <a:lnTo>
                    <a:pt x="816" y="912"/>
                  </a:lnTo>
                  <a:lnTo>
                    <a:pt x="816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headEnd len="lg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72160" y="2971800"/>
              <a:ext cx="3755880" cy="842760"/>
            </a:xfrm>
            <a:custGeom>
              <a:avLst/>
              <a:gdLst/>
              <a:ahLst/>
              <a:rect l="l" t="t" r="r" b="b"/>
              <a:pathLst>
                <a:path w="2366" h="531">
                  <a:moveTo>
                    <a:pt x="0" y="0"/>
                  </a:moveTo>
                  <a:lnTo>
                    <a:pt x="0" y="528"/>
                  </a:lnTo>
                  <a:lnTo>
                    <a:pt x="2366" y="531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48120" y="3504960"/>
              <a:ext cx="525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oruchová složka momentu pracovního stroj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320" y="4114800"/>
            <a:ext cx="89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yjádření momentové charakteristiky pracovního stroj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533520" y="4495680"/>
                <a:ext cx="370656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 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34" name=""/>
          <p:cNvGrpSpPr/>
          <p:nvPr/>
        </p:nvGrpSpPr>
        <p:grpSpPr>
          <a:xfrm>
            <a:off x="3581280" y="5257800"/>
            <a:ext cx="762120" cy="228600"/>
            <a:chOff x="3581280" y="5257800"/>
            <a:chExt cx="762120" cy="228600"/>
          </a:xfrm>
        </p:grpSpPr>
        <p:sp>
          <p:nvSpPr>
            <p:cNvPr id="535" name=""/>
            <p:cNvSpPr/>
            <p:nvPr/>
          </p:nvSpPr>
          <p:spPr>
            <a:xfrm>
              <a:off x="3581280" y="5257800"/>
              <a:ext cx="30492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33920" y="5257800"/>
              <a:ext cx="609480" cy="228600"/>
            </a:xfrm>
            <a:custGeom>
              <a:avLst/>
              <a:gdLst/>
              <a:ahLst/>
              <a:rect l="l" t="t" r="r" b="b"/>
              <a:pathLst>
                <a:path w="384" h="144">
                  <a:moveTo>
                    <a:pt x="0" y="0"/>
                  </a:moveTo>
                  <a:lnTo>
                    <a:pt x="0" y="144"/>
                  </a:lnTo>
                  <a:lnTo>
                    <a:pt x="384" y="144"/>
                  </a:lnTo>
                </a:path>
              </a:pathLst>
            </a:custGeom>
            <a:noFill/>
            <a:ln w="190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343400" y="533412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ahoma"/>
              </a:rPr>
              <a:t>nominální úhlová rychl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343400" y="56386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ahoma"/>
              </a:rPr>
              <a:t>nominální hodnota pracovního momen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343400" y="59436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33ff"/>
                </a:solidFill>
                <a:latin typeface="Tahoma"/>
              </a:rPr>
              <a:t>třecí moment (Coulombovo třen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286000" y="5105520"/>
            <a:ext cx="2057400" cy="685800"/>
            <a:chOff x="2286000" y="5105520"/>
            <a:chExt cx="2057400" cy="685800"/>
          </a:xfrm>
        </p:grpSpPr>
        <p:sp>
          <p:nvSpPr>
            <p:cNvPr id="541" name=""/>
            <p:cNvSpPr/>
            <p:nvPr/>
          </p:nvSpPr>
          <p:spPr>
            <a:xfrm>
              <a:off x="2286000" y="5105520"/>
              <a:ext cx="30492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438280" y="5105520"/>
              <a:ext cx="1905120" cy="685800"/>
            </a:xfrm>
            <a:custGeom>
              <a:avLst/>
              <a:gdLst/>
              <a:ahLst/>
              <a:rect l="l" t="t" r="r" b="b"/>
              <a:pathLst>
                <a:path w="1200" h="432">
                  <a:moveTo>
                    <a:pt x="1200" y="432"/>
                  </a:moveTo>
                  <a:lnTo>
                    <a:pt x="0" y="43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1600200" y="5105520"/>
            <a:ext cx="2743200" cy="990360"/>
            <a:chOff x="1600200" y="5105520"/>
            <a:chExt cx="2743200" cy="990360"/>
          </a:xfrm>
        </p:grpSpPr>
        <p:sp>
          <p:nvSpPr>
            <p:cNvPr id="544" name=""/>
            <p:cNvSpPr/>
            <p:nvPr/>
          </p:nvSpPr>
          <p:spPr>
            <a:xfrm>
              <a:off x="1600200" y="5105520"/>
              <a:ext cx="30492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752480" y="5105520"/>
              <a:ext cx="2590920" cy="990360"/>
            </a:xfrm>
            <a:custGeom>
              <a:avLst/>
              <a:gdLst/>
              <a:ahLst/>
              <a:rect l="l" t="t" r="r" b="b"/>
              <a:pathLst>
                <a:path w="1632" h="624">
                  <a:moveTo>
                    <a:pt x="1632" y="624"/>
                  </a:moveTo>
                  <a:lnTo>
                    <a:pt x="0" y="624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08:03:19Z</dcterms:created>
  <dc:creator>Ing. František Procházka, Ph.D.</dc:creator>
  <dc:description/>
  <dc:language>en-US</dc:language>
  <cp:lastModifiedBy>Ing. František Procházka, Ph.D.</cp:lastModifiedBy>
  <dcterms:modified xsi:type="dcterms:W3CDTF">2003-05-29T15:27:26Z</dcterms:modified>
  <cp:revision>19</cp:revision>
  <dc:subject/>
  <dc:title>Prezentace aplikace PowerPoint</dc:title>
</cp:coreProperties>
</file>